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CDAD-F3BC-4324-B40F-C357EA868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CCBA-2E82-4A63-9676-7B90D08AA8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EE98-06F9-4BEB-813C-4A02B101E1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9C4C-68BF-4D70-9C65-BB96F3FEE6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496D-0722-4AD2-B945-5954FD8F0B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988F-8353-4CDE-AC8C-E78E8B8A86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3115-DD38-4A52-B4CE-8FD0011051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F976-41AC-48B2-A860-220519C71C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C94D-1987-4BCC-BF0E-373315A160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44AE-22E4-4A28-9540-12F2B75A55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5C73-D970-4C7A-B795-14927655B8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4E89-A29C-463F-A4E1-47AB11B6C0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ADDD-CC7A-4943-A745-D65595BF5C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EB49-0E4F-4C73-B52F-628BF936FE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5A80-9253-4C5B-82C8-9E35D81D32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BA65-083E-4DC6-B661-EB3607C2AA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1D86-5240-40B7-BAF7-FF8157A91A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933C-F0F0-44DA-9A78-774671BCF1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6D77-B3D9-45A6-830D-FB44BD4F86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F75D-49F9-4C00-BD4F-7903C3847E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7E8A-B1B1-4F27-9FCD-ED7D3026FE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0959-AEEE-4650-8E3F-E3C6791AA1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4DB7-356B-4C21-B3B3-3092375394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EAB3-C293-444B-BE7F-F4A885362A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4B7F-A202-4FBE-9F65-532EAE385E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C0EC-E49E-4803-8139-AF7310C176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9D58-A413-4C04-83DC-1FFD0F9EC7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C7B7-8F53-4049-BCCF-A3DD5586F0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AB11-5336-4ECB-99FC-858948928C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7574-F00C-4635-8A25-A0B5C32718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750-D83F-4BDC-8790-786EBC9B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143-D630-4CB2-9982-034B63E7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F8A-A36F-43B9-9B55-C8C0C409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D97-10AD-488B-84DD-7CA6F3B2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EA2A-1A2A-40D2-B67E-8A4937C7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FEE8-4292-4234-B73C-A280D553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E38A-1301-47EF-A6F1-BF11695F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A581-8B61-4745-838F-9B2D6992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7FE2-00BB-4490-B548-BAD60944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D018-5C56-4D2C-9FEA-381B8795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8A3A-88AD-42F3-A31B-DDEB3D87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D13-EDCC-469F-A40E-9A534336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D650-3C16-4DA5-B7ED-01F2565C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D7AE-D058-41F1-9123-B3C861A5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0F28-07C3-41DE-9EDB-73BC0912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A702-5BB3-4950-9534-B712DD5D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AEA7-E26B-45F9-914D-10E074E0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8AE-8877-4512-9317-A8E6FA64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A24-7B6A-416F-A486-68D94957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956-487D-4A02-A66F-9522E7D6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176-020B-495D-A484-A33601E1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F37-D467-4F53-B28E-C204F533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E29-C653-4133-ADE4-77B2A380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BCA6-A54F-4DB5-85DC-65E9D081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EB31-26A2-41C8-9A55-F1DC9328ACC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6A1D-70CF-4CED-8682-0CF6A49C90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BFFD-7300-4693-9C21-7D2F26BABBB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DCC8-E77D-46A0-A3DE-50DAD9D653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4" descr="Radvansky1b1"/>
          <p:cNvPicPr/>
          <p:nvPr/>
        </p:nvPicPr>
        <p:blipFill>
          <a:blip r:embed="rId1"/>
          <a:stretch/>
        </p:blipFill>
        <p:spPr>
          <a:xfrm>
            <a:off x="760320" y="1600200"/>
            <a:ext cx="2252880" cy="2975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266832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 Radvansk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22240" y="492588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5 – Working 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28600" y="55357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 or display, including transmission of any image over a network; preparation of any derivative work, including extraction, in whole or in part, of any images; any rental, lease, or lending program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honological Loo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aning can influence performa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nrelated words produce a phonological similarity eff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aningful contexts (e.g., sentences) produce a reverse phonological similarity eff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Poem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Visuo-Spatial Sketch Pa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nfluence of visual/spatial facto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erformance varies with spatial complex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Not disrupted by verbal distrac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isrupted by spatial distrac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Visuo-Spatial Sketch Pa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rations of the visuo-spatial sketchpad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ntal scan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ntal rot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oundary extens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ynamic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Visuo-Spatial Sketch Pa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tal scann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ime needed to mentally scan a spatial distance increases with the size of the dista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Visuo-Spatial Sketch Pa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tal ro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time needed to recognize an object is a function of the degree of rotation need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Visuo-Spatial Sketch Pa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undary extens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sual memory beyond the field of view is filled in with more of a scene than was actually pre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Visuo-Spatial Sketch Pa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Dynamic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presentational Momentu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presentational Grav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presentational Fri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n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pisodic Buff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west aspect of working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ultimodal information is bound to create episodic tr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udit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honologic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ti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su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ong-term memor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mant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chemat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ructur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pisodic Buff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ormation is bound together in the episodic buff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creates the episodic memory tra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orking memory interacts with long-term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pisodic Buff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efferies, Lambon Ralph, &amp; Baddeley (2004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given lists of words or sent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urrent visuospatial distractor tas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consumes executive resour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orking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addeley’s Mod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onological Loo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suo-Spatial Sketch Pa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pisodic Buff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entral Execu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an Te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M and Complex Proces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pisodic Buff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al task condition only affected sentence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do not integrate random words in a li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ever, people do this with meaningful sent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is disrupted by the concurrent tas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Central Execu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control center for working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anipulates the contents of the subsystems and allocates resou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most complex and active part of working memory, but it has received the least atten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entral Execu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ysexecutive syndr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mage to the frontal lob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ss of executive contro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major deficiencie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rsever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tinuing to pursue a goal after comple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stra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 the absence of a goal, an external stimulus may grab atten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orking Memory Span Te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sessing working memory capa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mple span tes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.g., digit sp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nly involves reten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span te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volve both retention and process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orking Memory Span Te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ntence Span (Daneman &amp; Carpenter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read sentences aloud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 turned up Michigan Avenue where we had a clear view of the lake.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 the last word of each sentence in a se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both read (process) and remember words (retenti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orking Memory Span Te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rehension Sp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read sentence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t was the gangsters that broke into the warehouse.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t was the warehouse that broke into the gangsters.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udge sentence sensibility and remember the last word of each sentence in a se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both read and make judgments (process) and remember words (retenti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orking Memory Span Te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ration span (Turner &amp; Engl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read math problems followed by a word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7 * 2) – 3  = 12      LAK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ask is to read the problem aloud and state whether the solution is corr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ord must be remember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both solve problems (process) and remember words (retenti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orking Memory Span Te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atial span (Shah &amp; Miyak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udge rotated letters as normal or mirror rever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 letter orientations (which direction the top of the letter was pointing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both judge the letter (process) and remember orientation (retenti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orking Memory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nd Complex Proces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rking Memory and Long-Term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an is related to ease of LTM retriev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gher span is correlated with less retrieval interfer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ople with lower capacities search through more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orking Memory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nd Complex Proces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king under press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people are skilled at a task, increasing working memory involvement can reduce performa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flict between conscious intention and automatic activity, thereby lower performa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Working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Baddeley’s mod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entral execu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ontrol center of working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ree subsystem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honological loo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Processes verbal / acoustic inform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Visuo-spatial sketch pa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Processes visual and spatial inform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pisodic buff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is bound together from different sour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honological Loo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wo compon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honological short-term sto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honological information that decays with ti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nner e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ubvocal rehearsal proces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rticulatory-like rehearsal that needs active mainten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nner vo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honological Loo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Five characteris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ord leng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rticulatory suppress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rrelevant spee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honological similar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honological Loo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Word leng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Longer words take longer to articulate, and are less likely to be refresh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Articulatory suppress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Longer words are more disrupted by articulation, which uses rehears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honological Loo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rrelevant spee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Background noise, particularly speech, intrudes on phonological loop proces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honological Loo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honological similar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imilar items in the are harder to discrimin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rformance is better with rhymes, worse with alliterative items, and worst with bo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Phonological Loo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eman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Nonwords remembered worse than wo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ome long-term memory aid is needed to support working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22:19:14Z</dcterms:created>
  <dc:creator>Gabriel Radvansky</dc:creator>
  <dc:description/>
  <dc:language>en-US</dc:language>
  <cp:lastModifiedBy>Rinaldirg</cp:lastModifiedBy>
  <dcterms:modified xsi:type="dcterms:W3CDTF">2011-05-11T20:33:23Z</dcterms:modified>
  <cp:revision>313</cp:revision>
  <dc:subject/>
  <dc:title>Short-term memory</dc:title>
</cp:coreProperties>
</file>