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F98-F636-4D16-8F99-0EB08470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496-E09A-4D8B-A6B4-BB097D41E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0CA-5BE2-4966-BE90-737E3EE43A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CAF5-3059-4CFE-B5F0-DF9446ED9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EEF6-F16A-4EAE-8665-2B4B85793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E4C-0D69-415A-BD4F-C42AE4F340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58D0-3328-47D6-A8C7-A3122DFDD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7EB-F42D-4334-A70E-815AFDF2B3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3C4-6745-437E-92C1-DFE66A467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1BA-5988-4BCF-91DF-26DFA4CF56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286-865B-45CF-AA87-465FB62E8C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3E6-F49A-447E-B0E5-8C4622137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AA1-0B4F-4843-90A8-0F351876C3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669E-D50B-4F93-BFF2-046E91AF5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43D-0A41-4045-A3B3-665FB5EB1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BFC0-8B00-4DA9-B014-F011D1681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401-8850-4CD0-BEFE-DF3A72FDA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406D-BE7C-453F-BFCD-45A176501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4AD-9167-4931-B57C-D5B7AC02A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A332-0310-4F64-B258-DF2090E23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414-EF3A-46F1-894D-6825A6011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9E2-3E57-4486-8628-3C5A14C57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F68-D409-4E03-8469-5ABD5404FB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BF2-7ED2-4491-AE24-03CAE046D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648-7DA9-4666-A39E-6228BEA82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EBC-EA11-480A-8E3A-203017BFF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F82-3F40-4934-AC5F-E288442126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E0F-42FD-423B-A0C7-C9F0BB2DB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053-C062-4ED5-9D0F-DC5942AC33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837-419B-4E4F-9860-B82BE08C2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89E-2C12-4BF7-93DE-935A5D448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695-ECDF-4023-B3FF-D93C96FC7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2323-061A-4F8E-AD98-C369B158D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BF5B-1B23-433F-911B-18F9698962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971-9E97-4062-8D2F-27FB1B9EA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67F5-CDCA-46A0-B635-ADEE2E05F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BBB-6D20-4331-A29B-FF77E87739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4BA-8C57-4D90-A150-5870230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F55-1F8B-468E-8C75-7573ECD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280-5781-42B0-AE28-00E56598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92E-822F-43E7-A6A9-CFADA590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D92CF-319E-466F-9910-A063A75FD7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BFBAF-BA58-464B-A719-B162E658F1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FED5A-2BE1-418A-B5A1-F4367D09E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A1639-8D38-434E-A646-CDB3847F9B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D523B-F087-4F6D-ADDE-BD070337AC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ED075-4241-4979-B2B5-F7753C43C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7821-9AD1-4599-A277-6397B4842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D03-DF15-4B4C-A352-ECB68E8F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4C19-513A-4BD6-824B-4669D22630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19B0-2400-4863-B24D-04EE3FAEB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1526A-B2BD-456A-9BC3-C3DA3FBCB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964B-771C-4414-920D-0BE4972F8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5B784-E102-49DC-83C6-2E882E28F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7B1-46C4-44D4-8E3C-4A32795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8A8-D65D-4612-A75E-52C461A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658-E0A1-42F2-B008-AD8541FA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C29-1ABC-42BD-AAC2-A4C0B0A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35A-B68F-4215-8093-B3199D1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673-D616-4CBD-BA42-AACDD8A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3A9-41AD-4472-B1C5-5334679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DEA-4A4C-4BA4-B68B-3BF1C40BB03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BF2-09A8-4433-B852-0404ABD30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C42-0787-4167-9D38-ABD4D3D23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–Memory and Realit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rypto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Unconscious plagiar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person has a “good idea” that she thinks is ne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t has been forgotten that it, or something similar to it, was encountered earli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, category item generation tas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son given category name (tool) and asked to generate example (hamme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often plagiarize the person just befor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attention is not fully available, source information is forgot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yptomnesia is more likely when people elaborate on someone else’s id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aboration creates cognitive operations, which are associated with self-generate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elaboration, the greater the effec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false fame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lling nonfamous names “famous” after they had been read/heard earli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read a list of nonfamous names (e.g., Sebastian Weisdorf), under divided att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ractor tas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are given a list of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amous na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nonfamous na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ew nonfamous na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ask is to identify famous na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ld nonfamous names are called “famous” more often than new nonfamous na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are using familiarity to mak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make mistakes because it feels familiar, not because they remember 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eeper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hear message from high or low credibili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a few days or weeks, the message from the low credibility source has greater credi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lose source information and only remember the mess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shful thinking bi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misremember positive / desirable information as being from more credible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 true for information that has implications for one’s 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membering things that never happene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may be remembered with high confid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owever, they are typically not the most confident memories, nor the first recal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ften what is falsely recalled is related to other real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are not rand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ese – Roediger – McDermott parad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given list of words that are all related to a critical wor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gularly recall that critical word, and are often confident that it was on the li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mory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 monitor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anted false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al overshado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velation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cod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neural a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eater activation of cortical areas associated with image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rieval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 P300 compon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alsely Integrating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sweet jelly which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jelly which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jell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sweet jell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were in the kit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jelly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ich Did You See Befor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sweet jelly which was on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sweet jel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sweet jel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sweet jelly was on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jelly which was on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jelly was swee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jel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ich Did You See Befor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sweet jelly which was on the table. (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in the kitchen ate the sweet jelly. (3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sweet jelly. (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sweet jelly was on the table. (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jelly which was on the table. (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jelly was sweet. (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ants ate the jelly. (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lse integ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people hear related, and overlapping pieces of information, they integrate it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say something that is closer to the integrated whole as being old than actually heard, smaller compon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lanted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lse memories implanted from an external sou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ntional or unintention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lead to changes in behavi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.g., avoiding foo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ery inf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lanted memories are more likely when people are encouraged to form mental images during recall attemp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iew pictures of self can magnify th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rratives still have a bigger influence than pictu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implantation and feedb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Zaragoza, Payment, Ackil, Drivdahl, &amp; Beck (2001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udents viewed a film and then answered questions, knowing that the answers were incorr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% false memory 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edback of either “O.K.” or “That’s right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.K. = 26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at’s right = 38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in groups can improve perform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ive inhibition works to suppress false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fluence of Emo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are more likely to have false memories when the information itself is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negat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are more likely to have false memories when they are in a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yp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n altered state of consciousness involving a heightened state of co-operability and suggesti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differ in hypnotic susceptibility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ow suscept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edium suscept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 suscept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Being able to tell where a memory came fr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ot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is remembered, but from w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the information was lear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 qualitative, not a quantitative dif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luence o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ndency to recall more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specially true of high susceptibility peop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ypnotized people are confident about new information they reca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st new information is wr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dditional accurate recalls can be attributed to hypermnes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ypnotized people try to co-operate with the hypnoti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asked for more information, they report mo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under hypnosis adopt a liberal response bias, reporting things that they would normally not consider accu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hrough Normal Memory U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al overshado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people give a description of a witnessed scene, then memory is worse compared to if nothing is sai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ccurs for both things described and n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hrough Normal Memory U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al facili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eries of faces are described one after the o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develop effective strategies of encoding face information using verbal lab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hrough Normal Memory U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velation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more likely to say that something is old (in memory) if it is revealed slow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revelation process produces a feeling of familia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n also occur for information that is presented slowly or by finding the solution to a problem (anagram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hrough Normal Memory U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velation effect observed in ERP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is more positive activity for revealed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supports the idea that revealed new items come to mimic old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False Memori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hrough Normal Memory U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vealing words prior to making autobiographical memory judgments increases confidence in the memories (if the word was related to the memory conten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erent types of information are used to determine sour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is not a discrete quality but is determined along a continu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ypes of inform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ceptual detai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ual inform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detail/affective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gnitive operation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xternal Source Monito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erentiating between external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ceptually similar sources are harder to discrimin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l Source Monito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erentiating between thought and 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was it thought about or actually sai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ality Monito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inguishing between externally and internally generated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reaks down as cognitive operations become harder to ac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likely to occur for emotional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 cu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ing source information can serve as a cue to help a person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 err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likely to have generated information is mistaken for real than vice ver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 is a decision making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set detection thresholds and biases based on a variety of fac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urce monitoring errors can lead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rrors in eyewitness testimon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(see Chapter 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ryptomnes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false fame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iction becoming fa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7:14:18Z</dcterms:created>
  <dc:creator>Gabriel Radvansky</dc:creator>
  <dc:description/>
  <dc:language>en-US</dc:language>
  <cp:lastModifiedBy>Rinaldirg</cp:lastModifiedBy>
  <dcterms:modified xsi:type="dcterms:W3CDTF">2011-05-11T20:35:18Z</dcterms:modified>
  <cp:revision>188</cp:revision>
  <dc:subject/>
  <dc:title>Memory Illusions</dc:title>
</cp:coreProperties>
</file>