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921D-0909-4E47-BB29-A147FC24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F094-1B3E-4DF0-9B6A-B986B79068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3BAE-C7E5-40C0-BF9A-022EAF98C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4EA8-FDE4-46AD-90B3-4DAB6F3FF7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BB4F-3D62-45AB-8BBB-5AE5713EA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7191-694A-4659-A4FC-B2F5A8E0A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3B1B-F83D-4497-96F7-D2BBCEDB88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2CF4-12B0-4254-BD92-223596CBF5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751-F6E9-4E4B-BB0E-A213DD2C8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F1C-7EB4-4E78-A9D4-BBBF9ECAFD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5F1B-14C8-45B7-B512-2D93E866A7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A066-3EC3-488C-8D2D-682B2B446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F0BA-68C6-402A-B8F5-12AAF26609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F826-C8D7-4281-AB8E-6DFF9E93DE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F92-A3A2-4A75-8942-9209A165A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5DEA-932A-47A3-9BE9-047BD8DD24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8F26-5A5E-4628-9864-0A359A40C6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3AE0-888A-4765-9979-6B8E8B652D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1B9E-665F-4406-A686-FB0310575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D98-58D3-48E7-8E99-540FAEC989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C6E2-C907-4A37-BD6B-57D25E13D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821-CD36-4C45-8ADA-055B4EC50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4FCA-3AD8-4149-8FB6-5695FE4C76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A38E-AC55-4676-B267-BC26D991DD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C4A0-93BD-44C5-8CBA-F96E6C118C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D724-C166-4D8D-A011-A1A14C958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2C8-E00B-4317-BA57-992532CBE6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A78-22CF-4D1E-BD79-393DB35119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1245-C35C-450F-9622-E1B237CB5B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F7FC-F794-4435-9E11-0B0422CB4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ECD-42BA-4C1E-AE22-7ED315D5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2C9-9DFC-44FB-9505-0D8C1A78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75B-14A6-4E5E-BB17-5789F4E9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5EC-7FFF-4163-8119-538A2D19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5B867-F624-4CF4-B151-1A3B2E797D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B5106-2897-43F4-B4C4-755BF300EA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119F0-9F92-4725-9B0A-38321447A4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0CF1C-23E1-431B-9D07-D85981C1B0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08D93-C5D1-420E-97C4-A1B83527A4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B234F-3644-4E0B-9F61-6D0A28081B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D759C-E601-49F6-B4EE-CAB10D76B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165-CB6E-479A-A715-80D25DDF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72426-B945-4381-9990-8543E5BF0B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D2D01-9704-4723-87F4-EF0AD3E749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32621-54BC-4DAF-B434-D899E335C6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F7558-E2AF-4835-9D99-19FF6BE48E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91432-1A28-4B2F-A5ED-D2F58B7BF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47B-45B0-47ED-B7DD-D86C7ED9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581-AAA1-4460-8DA5-67634D44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E72-54DA-4A8A-842B-D7685B2C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8B6-38BB-4F6E-B02D-E57496B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F58-56C7-4568-A43A-4C4B12FA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2F2-D1C4-424C-B221-519878E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D20-0673-41B6-8EEC-CF80E4B8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F86E-336F-4B83-A423-92701AE7C72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/3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D932-191A-4906-8690-39F4C0C2EA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FED-596C-4CDA-B4FA-658CA245AA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26668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457200" y="62485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8 –Memory for Space and Tim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Psychophy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tegory adjustment the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erformance is a combination of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ine-grained memo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oarse-grained memo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se sources vary in their influ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itially performance reflects more fine-grained mem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ater, performance reflects more coarse-grained mem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ental representation of spatial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patial the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emporal the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ybrid the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patial the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 are spatially organize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his organization is hierarchical, not metr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ies are distorted based on reg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istance estimates from memory are influenced by the number of intervening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ior Knowledge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s of map borders, even when the borders no longer exi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rmans overestimated distances between East and West German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 years after reunif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pronounced if people had a negative opinion of reunifi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ore priming is observed for spatially close than far obj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iming is affected more by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out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distance than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uclidea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dist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 points (landmark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ies are often distorted toward landmarks, which define regions, and are treated as chun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emporal the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 are organized by order of acqui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emporal and spatial proximity are usually confounded during lear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deconfounded, temporal priming is observ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ybrid the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 use both spatial and temporal organiz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ual trace the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 metric represent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n abstract propositional represent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etric representation is used for some tasks, and the abstract one for oth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ual process the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urse-grained processes for categorical information (e.g., region informatio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ine-grained processes for detail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rformance is a mixture of the tw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ifferent tasks rely more or less on one of the proc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ute and survey persp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oth types of descriptions are encoded similar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make inferences equally well in both ca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eff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 relations can influence organ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example, priming reflects both spatial and semantic d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mory for Space and 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mory psychophysic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ntal ma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cating memories in ti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patial framewor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Ro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p judgments are slowed with increased deviations from canonical orient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 have a preferred viewing ang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rrors in Angle Estim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stimates are more errors prone if the current orientation does not match the origi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vary in their ab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erspective eff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increase distances for near locations, and decrease them for far lo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ew Yorkers’ view of the wor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ong-Term Memory for when events occur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is is often difficul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emporal d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How long ago (less accurat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emporal lo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in the past (more accurat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lative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elative orde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henomen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Older memories are harder to locate in ti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position cur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first and last events are often remembered bes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cale effe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ccurate at one level of scale, but wrong at anoth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may get the day right but the month wro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henomena (continued)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elescoping effe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orward telescop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Older memories seem more recen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Backward telescop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Very recent memories seem old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 effe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One order of recall preferr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ccuracy effe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ocalization accuracy is associated with memory accurac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mporal memory process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stance-based process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Age of memory is important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ocation-based process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ocation in time encoded with the memor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lative time process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emporal information is referenced to other even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ategory adjustment mod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emporal memory a combination of influenc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tance-based proces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stimation may reflect memory trace streng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older a memory trace, the weaker it 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stronger the trace, the more rec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stimates based on the overlap between the current context and that associated with a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Greater overlap = newer mem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ess overlap = older mem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Location-based proces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time of an event is directly encoded into the memory tr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Perhaps using a biological clock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While there are some time-tagged memories, these are rare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Time estimation involves inferenc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This uses knowledge about events whose time is known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Time estimation is reconstructiv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lative time proces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ssociations are formed with prior and subsequent ev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stimation based on older traces linked to a new o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tegory adjustment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a combination of two influ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Fine-grained memo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oarse-grained memo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pati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ntal M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 mental representation that captures spatial characteris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riginally proposed by Tolman to explain the behavior of rats in maze learning stud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Psychophy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sychophysical laws and magnitude esti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eber's La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echner's La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teven's Law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Psychophy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even’s La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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= psychological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k = const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= physical magnitu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 = slope of a function in log/log coordin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Psychophy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pplying psychophysical principles to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patial memory is ideal beca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pace can be objectively measu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can be directly compared with i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patial memory is fairly accurate, but there are some devi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Psychophy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Distance esti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stimate the distance between two poi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erformance is indexed by 3 meas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xponent (slope of the func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nstant (y-intercept of the func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overall accuracy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Psychophy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rception is quite accur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lope = very close to 1.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y-intercept = very close to 0.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= very close to 1.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tends to be wor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lope = smaller (.80 - .9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y-intercept = somewhat greater than 0.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= smaller than 1.00 (.75 - .95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Psychophy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ference is wor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lope = relatively small (.50 - .8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y-intercept = relatively lar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= much smaller than 1.00 (.50 - .8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8:13:20Z</dcterms:created>
  <dc:creator>Gabriel Radvansky</dc:creator>
  <dc:description/>
  <dc:language>en-US</dc:language>
  <cp:lastModifiedBy>Rinaldirg</cp:lastModifiedBy>
  <dcterms:modified xsi:type="dcterms:W3CDTF">2011-05-11T20:34:13Z</dcterms:modified>
  <cp:revision>281</cp:revision>
  <dc:subject/>
  <dc:title>Memory for space and time</dc:title>
</cp:coreProperties>
</file>