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C07-E22D-49F6-8920-6DA421049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65B-3884-4965-9131-1109D9BAC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7EE1-FC6C-4020-AC76-2800D6C64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02C-EFEC-4C95-BD1A-B4A88D7EF8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3EDD-2095-4AE7-9856-4C918CAFA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64D2-768E-493E-BBEB-CB902898FF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EB1F-E7D0-408E-88DE-79F75346CA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863-2052-430E-8CA0-229B87B57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E09-7FAF-4662-88BE-A228999D1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991E-8E70-4AB2-ACBF-6858332AE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6DB-F945-4512-B318-C145A660B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7AD7-000E-46D4-A7C9-42FA8FFC6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8162-AC9D-44B5-8F15-B0DD216801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9E2A-6C7F-4471-B241-41A08D1D5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4059-A009-475C-B5B5-5CD3D76DB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278-C625-4C29-805E-6085A8CAF6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205-C882-4703-B605-2EE3CF127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EBA-0FE6-4174-8AB2-A4DEC80A7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305-22C4-40D0-AD82-18E92AE0B8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994-C7BD-419E-AAAA-D53BAEDBE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898C-547E-4587-9DD7-1C4D07E3A6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62A7-DE62-4AAC-A5EE-0AB3D2D32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D37-9E09-4EA6-A64D-FDA4BEE25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4B77-3378-4140-B898-131C665CEB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8E30-1180-4B3A-B779-0AE2E38454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42A-16D2-4FAD-9BED-F1E011E83E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A00-4DD3-44C4-97BB-E497557FF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E318-21A4-4BA9-A8C0-4C4EE3EA2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063B-F371-4A17-994B-E2AFF5D1F3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B213-3A57-4755-B394-AB8540467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B3B7-3544-4425-B2DB-D59888A4D4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639-BB1B-45A2-9BBF-BE2C11098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E10-0AA0-48FB-BC61-9953DD071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269-F8C7-46BC-B340-9C974C40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C41-B7F1-4C8C-9797-76D0987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91C-2ADE-496F-B559-1252BC85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E80-7126-48B1-AE77-7A21D7E5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A6A-7B40-439E-A9F6-23ACEFEF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B0C-F449-4703-8A06-1F58EF46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A3F-65F9-4EE1-A348-241921A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378-6609-4A06-8CA9-CA2F26C7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8EC-9744-40FD-A8C9-CCB7D3C2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961-F4F2-4720-A17C-398BFCD3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0B0-0097-4512-BA3A-ABF8B1C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570-6C26-4BB3-B644-1F86E48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6531-8339-424D-8E47-5DAE7BDB85E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BFF8-0E9E-47F0-9690-19F3E93C4F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an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Radvansky1b1"/>
          <p:cNvPicPr/>
          <p:nvPr/>
        </p:nvPicPr>
        <p:blipFill>
          <a:blip r:embed="rId1"/>
          <a:stretch/>
        </p:blipFill>
        <p:spPr>
          <a:xfrm>
            <a:off x="760320" y="1600200"/>
            <a:ext cx="2251080" cy="2973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266832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 Radvan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822240" y="492588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 – Overview and History of Memory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8600" y="55357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 or display, including transmission of any image over a network; preparation of any derivative work, including extraction, in whole or in part, of any images; any rental, lease, or lending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o (428?-347? B.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x tablet metaph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stotle (384-322 B.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iric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s of asso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gu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Modern pre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. Augustine (354-4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anced description of memory in the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onf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bert Hooke (1635-17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dern insights, but were ignored when he was overshadowed by New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rwin and natural selection (1809-188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ganism changes to exploit the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Modern pre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ilosophy of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iric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nowledge through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sociatio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tio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nowledge through the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tive involvement of the m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memory psycholog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bbinghaus (1850-19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Nonsense syllabl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PIM  DAG  ZOL  CE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curv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Forgetting curv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Overlearn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aving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rtlett (1886-196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How does prior knowledge influence memor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chem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James(1842-191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Primary and secondary memor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Tip-of-the-Tongue phenomen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orgetting Cu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Content Placeholder 7" descr="fg03-03 [Converted].png"/>
          <p:cNvPicPr/>
          <p:nvPr/>
        </p:nvPicPr>
        <p:blipFill>
          <a:blip r:embed="rId1"/>
          <a:stretch/>
        </p:blipFill>
        <p:spPr>
          <a:xfrm>
            <a:off x="2057400" y="1365120"/>
            <a:ext cx="4648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stalt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whole is different that the sum of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nti-reduction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id acknowledge the importance of understanding the components of thou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influenced by the configuration of elements and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somorphism of mental representati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havi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sychology should be the study of observable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action to introsp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ssociated with the term “learn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luenced by Darwinian concepts of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arly behavior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vl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cal cond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al cond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w of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ntal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Verbal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ehaviorist approach to learning verbal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eveloped from Ebbinghaus’s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ttachment of responses to stimul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gett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oss of response availabil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Verbal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ired associat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-B C-D paradi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-B A-D paradi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-B A-B’ paradigm (synony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-B A-Br paradigm (recombin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story of Memory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ttering of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ors for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of Memory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dal Model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Memor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ring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arly Efforts in Neuro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ashley (1890-195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earch for the en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ats learned a 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ashley progressively removed larger and larger portions of rats brains, from different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affected more by the amount of brain tissue removed, not the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sults of Lashley’s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Content Placeholder 4" descr="fg01-01 [Converted].png"/>
          <p:cNvPicPr/>
          <p:nvPr/>
        </p:nvPicPr>
        <p:blipFill>
          <a:blip r:embed="rId1"/>
          <a:stretch/>
        </p:blipFill>
        <p:spPr>
          <a:xfrm>
            <a:off x="2133720" y="1447920"/>
            <a:ext cx="48006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arly Efforts in Neuro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He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Organization of Behavior (194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rerunner of computational neuro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athematical modeling of brain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ignal reverberation in collections of cell assemblies followed by a change in neural inter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Cognitive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ought is a valid subject fo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ssociated with the term “memo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dopted the methodological rigor of the behavior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computer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ardware vs.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istory of Memory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George Mi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agical Number Seven, Plus or Minus Two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195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Limited capacity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rganization aids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odal Model of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tandard model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kinson &amp; Shiffrin (196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ory regi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rt-term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ng-term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odal Model of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Content Placeholder 6" descr="Modal Model.PNG"/>
          <p:cNvPicPr/>
          <p:nvPr/>
        </p:nvPicPr>
        <p:blipFill>
          <a:blip r:embed="rId1"/>
          <a:stretch/>
        </p:blipFill>
        <p:spPr>
          <a:xfrm>
            <a:off x="457200" y="1957320"/>
            <a:ext cx="82296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ultiple Memory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ng-term memory involves several sub-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erent memory systems for different types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Tulving’s Triarchic The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Content Placeholder 6" descr="Hierarchy.PNG"/>
          <p:cNvPicPr/>
          <p:nvPr/>
        </p:nvPicPr>
        <p:blipFill>
          <a:blip r:embed="rId1"/>
          <a:stretch/>
        </p:blipFill>
        <p:spPr>
          <a:xfrm>
            <a:off x="809640" y="2004840"/>
            <a:ext cx="7524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quire’s Hierarc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Content Placeholder 4" descr="fg01-04 [Converted].png"/>
          <p:cNvPicPr/>
          <p:nvPr/>
        </p:nvPicPr>
        <p:blipFill>
          <a:blip r:embed="rId1"/>
          <a:stretch/>
        </p:blipFill>
        <p:spPr>
          <a:xfrm>
            <a:off x="1143000" y="2286000"/>
            <a:ext cx="736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 Smattering of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ree uses of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emo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s a record (memory trace 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ngra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s a storage fac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as a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Lear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 change in the potential of people to alter their behavior as a consequence of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ultiple Memory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larative Memory (explicit mem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mantic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pisodic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declarative memory (implicit mem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cedural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ical cond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curring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logical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emory relates to neurological structure and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emory is affected by emotiona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memory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zzy trace the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is affected by multiple memory traces acting in con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curring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bodied 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nfluenced by the context in which information in learned and rememb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needs to operate in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ory is influenced by how we interact with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fic rigor and converging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cientific method and data are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phors for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is not directly observ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rect assessments and descriptions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phors are often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phors for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order of exper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x tabl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ord pla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ing p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pe recor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deo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ganized stor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br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ction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phors for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witch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mbled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rds in an av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unk dra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rbage 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phors for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oral 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yor b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Addres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 and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ing f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tting of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ky bu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w’s 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 b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phors for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building a dinosa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tive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kb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uter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Pearson Education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taphors for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metaphors directly or indirectly embody an influence of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ooks, papers, shelv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mputer metaphor that dominated cognitive psychology is a recent version of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6:54:25Z</dcterms:created>
  <dc:creator>Gabriel Radvansky</dc:creator>
  <dc:description/>
  <dc:language>en-US</dc:language>
  <cp:lastModifiedBy>Rinaldirg</cp:lastModifiedBy>
  <dcterms:modified xsi:type="dcterms:W3CDTF">2011-05-11T20:29:49Z</dcterms:modified>
  <cp:revision>170</cp:revision>
  <dc:subject/>
  <dc:title>Theoretical Positions</dc:title>
</cp:coreProperties>
</file>