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B864-CF77-4E3C-B3F6-0BAE5253C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1285-0512-43D3-919B-45EA8818B6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8ABB-BCED-4949-8E6B-5C2F16FF74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27E4-23E4-4C8C-8AF0-7390FCE6B4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D764-3D39-4BC2-9A08-C5D2E857C9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EE05-6072-40C1-B60C-8206695D3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659D-7D8E-4655-B6D7-7847542098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25F3-EA9D-4285-BE2D-238CAB1C62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0F68-E524-4472-982C-4C29F92E11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7318-36CC-4F73-8435-6B4FE91879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7448-ECEB-46F1-86ED-0C5ACDADC4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F3FD-1D3A-46B8-B34A-FEB44BE7DB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818E-377A-4776-BAC4-328547EB68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60CD-222D-4E92-BA71-0E706390C9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183F-D99E-4B1C-B475-24AAAD5CB1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8D51-646B-4B8F-9293-F1EFFC08ED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333A-9D63-4CCF-8B45-32609DBB96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CDB9-6456-4E76-9BE7-2EC597B02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BC61-CBE1-4E88-B415-FFA8FDA5F3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1DE9-6F22-4594-BB5D-8F7D87CD93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3964-B73C-4090-AF8C-97EE9BBB8D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D5AB-E047-4CAD-A411-E7AA089DF8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1EBE-35E4-48D5-B3E3-C922EC282C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6656-3FDB-429F-9658-1378FD8189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DF47-969D-42B8-96B1-2B54CCEFAC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C29A-4503-4D2E-A43E-4E078B2AF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F81A-4F87-4595-B614-C7AF31E1C0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F9B2-C1DE-4044-B21E-360A07818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E053-9C13-487A-9241-7D7E2364B3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E54-0BF2-4C6C-BEA3-CE33062F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93D-5569-4DED-B5C3-9927BD55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EC4-7A60-43BC-97AA-DC8E52E3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5D2-AE50-4669-9BE5-ED9076CB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7720A-7615-43AE-89A7-FC99D018CF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FADA2-113A-47FC-AC42-A7B842924D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04AFD-4624-4E31-9EA2-DD2E23BD59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AA3E2-C032-4EC1-A61F-7212BC3282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A3DBC-173C-49E6-BEC0-5BA1BE426F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52D29-D027-4553-B931-CD0D25ACE1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B7FC0-93DA-4AED-B965-16C438003C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8FA-B8A9-40D1-804F-E3A35950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F2E33-2380-41CB-B5B8-3CA1B6BC97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DAB31-1B49-4CE4-BF73-4CB3EFDEA6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3DA5C-8974-4E4C-9218-518F13D7A0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7F8D8-1FA8-49AB-A80B-002C0D8F1B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48FC5-5FE1-4600-B770-651C099C1D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C8F-BE9B-44CF-956D-8896BC1F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317-5956-4F67-B8D3-A84B99D3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E5C-DA1A-457E-A243-0429DB48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886-A11A-4C76-B281-D3D95BEF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DD3-A758-4BA9-96B5-6A90E3B3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B68-9E78-48DA-9FFF-CDC27961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3AD-C819-47C7-A222-EF7D6F24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BE33-9249-4F80-8411-BB5017D4B73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6614-CA73-46BB-91D6-5E8D58B0F8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9048-38E5-48D9-9306-9017FEE15B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7144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5 –Memory and Development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hildhoo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king memor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span partially due to processing spe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lder children process information quick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ss forget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an also reflects increased inhibitory abil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lder children better at inhibitory tasks like directed forget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hildhoo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amemor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awareness increases with 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lder children can exploit things like the recency effect in short-term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lder children less susceptible to misleading post-event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s people age, they often complain that memory is not as good as it used to 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 are the effects of natural aging on memor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Ch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ns fire more slow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lowing seen when older adult performance is plotted as a function of younger adul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Brinley plo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peed the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slow-down that accompanies aging can account for memory chan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Ch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lowing results i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oss of information over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longer a process takes to complete, the more likely that forgetting will occu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ability to complete processing in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ailure to retain end products for later sta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Ch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Frontal lobes degra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rol of action and though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orsolateral affected more than the ventromedi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ecline in dopamine syste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hibition the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lder people have difficulty regulating memory con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Ch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Less efficient inhibition leads t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Unwanted information enters working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ewly irrelevant information stays in working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roblem with aging is not remembering too little, but remembering too mu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Ch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Declines in temporal lobe and hippocamp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bility for LTP to occur is reduc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Decreased lateralization of fun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oth hemispheres involved mor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Greater neural mass needed for mental comput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Ch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Working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apacity reduced in older adul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Less able to track of anaphoric referents in a narrative te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Ch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pisodic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Unaided recall is reduc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less influenced by con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uch as encoding specificit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arder to observe hypermnes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arger retrieval interference effe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1569960"/>
            <a:ext cx="8107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mory and Develop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fanc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ildhoo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ld A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Ch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tobiographical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iniscence bump emer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dominated b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ient landmark ev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sonally relevant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otionally positive memor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generic (semanti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for voluntary than involuntary A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Ch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and re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emory is less depend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elling the same story tw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igher rate of cryptomnesia and false fame effe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rger false memory effe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creased frontal lobe control and a greater emphasis on general semantic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Ch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and the la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lder adults are not more susceptible to misleading post-event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more confident in them when they do occu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Stay The Sam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Nondeclarative memory is largely int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o long as there is pract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pisodic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organization is unaffected or may improv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08440" indent="-22140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peated practice inhibition effects are small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08440" indent="-22140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ore affected by part-set cu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imilar flashbulb memory effects observ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cognition memory is unaffec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ecause recall is poorer, self-directed retrieval is worse, but simple matching is inta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Stay The Sam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memory is well preserv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iming effects similar in magnitude and scop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ell-learned knowledge is retained at a high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chemas and scripts are well retain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lder adults may be more dependent on th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Older adults rely more on gist than detail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Age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ngs That Stay The Sam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Higher-level memory is largely int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odel level processing is unaffected by a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Younger adults better remembering what was said (textbase), whereas older adults are better at what was talked about (referential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ta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er adults show similar hindsight bias effects as younger adul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ging and Emo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der adults gain more emotional contro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emphasis on positive emo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erved connections of frontal lobes to amygdala (controlling emotions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aker connections from amygdala to hippocampus (dulling influence of emotion on memory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ging and Emo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lder adults have smaller tunnel memory effec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lder adults show a “positivity effec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how mood congruency effec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urce monitoring preserved for emotional materia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ging and Memory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ood Advic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y activ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llectual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al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ysical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velop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are in a constant state of chan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lege student is usually compared to other life s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fe-span develop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are perpetually develop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nfan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can you tell if an infant remember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rious methods to test these non-verbal primat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oking 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uration or dire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n-nutritive su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jugate reinforce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Kicking in the crib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layed imi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nfan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licit, non-declarative, procedural memory are well-developed at bi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ildren prefer the sound of voices heard in the wom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ts of the brain develop at different ra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alamus and medial temporal lobe more developed at bir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ontal lobes less developed at bir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nfan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ants have some memory abili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ility to recognize pictures and drawings of obje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pisodic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text sensitive memo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licit recal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9-mo. old infants can recall an action up to 4 weeks la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0-mo. old infants can recall an action up to 6 months la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hildhoo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continues to devel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mantic memor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mantic memories can be complex and well-organized for well-known top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chemas and scripts continue to accumulate and become more complex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tegories become more distinct and defin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hildhoo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pisodic memor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ildren make more elaborative inferences as they get ol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erences help organize information, making it easier to reme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ildren develop more strategies for maintaining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hildhoo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king memor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king memory span increases with 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larger the span, the better memory process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an increase may be related to speech r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an scores improve if knowledge is in an area children have 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3:22:11Z</dcterms:created>
  <dc:creator>Gabriel Radvansky</dc:creator>
  <dc:description/>
  <dc:language>en-US</dc:language>
  <cp:lastModifiedBy>Rinaldirg</cp:lastModifiedBy>
  <dcterms:modified xsi:type="dcterms:W3CDTF">2011-05-11T20:36:03Z</dcterms:modified>
  <cp:revision>230</cp:revision>
  <dc:subject/>
  <dc:title>Memory and Aging</dc:title>
</cp:coreProperties>
</file>