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93B-F1C2-4B63-B334-E5D1A878C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392-1BFB-43C7-B62B-5D26D828E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E6F-9FD9-42C8-AA7F-1385B8161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0E2-BD44-4536-AE45-73D0447BB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E347-699D-486B-914A-9C605E576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0B4-3138-4EB3-A882-E5D09ED39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04B-9103-44DA-A79A-C07024AEB0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047-08F1-458E-8F67-BC40DB5B5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AB9A-4A7A-4E79-814D-82D809405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3BC-05BE-4281-B159-13E232F2DA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6AFF-7DF3-437A-BE1A-FD9BA97BE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07A2-7697-4118-BF5E-1569950E4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3D79-2EC1-4458-9B90-FD512AD55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2A2-68FF-4F8C-B4E3-8E27E54BA2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27AB-5758-4687-869F-6D346999F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0EF-D066-48AC-A2A6-237AD77E1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802-046F-4318-A0F2-2AFB56BFCB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084-77E9-4222-A1E4-10D00A456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A15-A845-46CB-B2A8-189D449DD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98C-6832-42DB-A22E-9752C4B68D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88A-CFE1-4192-8E96-328357C94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8AB-3E52-4813-9A90-E862482CA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27B8-A94C-4890-B80B-331EEFE14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EAF-1CD4-4366-85F8-1839F7426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78F-B5B5-4C69-BD2E-5EBD261C94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E4D1-6405-4E22-A650-7CA873CEB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D41-52F3-403E-BC11-447A869F5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99BB-2FA2-47D2-94A8-070E39735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5F6-A94E-409F-809C-30F672A43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82D-2A71-47A6-ADCB-EA5A8D2429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424-B08D-4160-A29E-417E9B141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6E7-2C0E-44E9-97A7-5B3291591C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A2D-B915-45C9-B790-12A34EDD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9C9-94CD-4242-A31B-67A33677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56A-F716-428F-87C4-33947304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880-E99D-4ED6-A1DD-08B73139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54372-2EBB-4A02-81C9-5CEA9D306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2A847-BBB3-409D-A756-271045CCF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5B109-3808-407D-B77F-B5E3411C9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758B8-A7BA-42CA-9C38-639778200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97293-2936-40E1-AFFA-C895F08E07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95D1E-449F-49F7-B068-D67395A8AB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81E6B-9356-4BCD-9674-5A5C8418B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67C-FC74-4201-8690-E8D6950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E859-93A5-4ACF-8726-B00F25A82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740DA-F843-485B-9443-1FBB3B3855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51F1E-41A1-49D1-B306-77340F7E41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83ACA-D5E1-4B36-A3DA-E4C4D37CA5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9BCC6-F982-406F-A573-62C5EFEC0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B99-D17F-4320-823C-CB04FA3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CFC-A8DC-434A-ACF3-6D6F55D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EFB-6EA0-4069-A7ED-A9DDEEE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880-522C-4CC1-B915-BDDAEEB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9B7-B3BF-4532-9AF3-6F55DEE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5A3-5E66-4390-952F-5426F0F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CAE-EC46-4D0F-9AF5-227E79E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8CF8-216C-4640-9715-7B0152ABFA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EE7-3C9B-48C8-A411-13CA4DD514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348-3DC4-427F-8DA4-7A728AD633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7 – Other Condition that Affect 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1"/>
          <a:stretch/>
        </p:blipFill>
        <p:spPr>
          <a:xfrm>
            <a:off x="360360" y="1474920"/>
            <a:ext cx="8332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rkinson’s disease (P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ubcortical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dementia resulting in a loss of motor contr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rem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ill roll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oluntary m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igidity of the limb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mpaired basal ganglia and substantia nig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(typically around age 5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ny of the cognitive consequences found in AD are also found in PD, although to a smaller degr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D compared to 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preserved episod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ograde amnesia with a temporal gradi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act S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complex visual-spatial tas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ormal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ewer intrusions than 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act implicit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efficient strateg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depre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Huntingt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subcortical dement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mpaired basal ganglia and caudate nucle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heri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tarts at 40 (patient usually dies before 6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tor probl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jerky m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 of coordin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pathetic respond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epression and irrit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Huntingt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iculty with attention and plan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vere retrograde amnesia -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lat grad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difficu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dural memory particularly hard h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Verbal memory better than perceptual/spati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mpaired skill acquis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ism adap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fabul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porting false information as if it were tr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ople believe these reports, even if they are bizarr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n claimed to have been married for only 3 years, but had 2 full grown children from that marri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ports often cued by elements of the environ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ictures in the ro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amage to the frontal lob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person cannot effectively monitor what memories are true and fals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chizophren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 biological disorder that results in a person becoming disconnected from re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izophrenia = split mi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oo much dopamin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ossibly some structural abnormali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r ventricl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ecreased neural mass in the frontal and temporal lobes and thalamu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defici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xtend over other intellectual defic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ly int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ormal digit spans and serial position cur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central executive affected (decreased inhibitory process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episodic recall and recogni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ograde amnesia (long extent, temporal gradient)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orld understanding is compromis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mplicit memory somewhat affec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ase of S. R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53 year old woma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First admitted at 18, and permanently hospitalized at 3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Perceptual processes inta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deficits for visual spatial transformation (e.g., same face different angl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Language abilities spar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mis-labeling of picture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accordion for trumpe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hare for kangaroo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ly worse naming living than nonliving thi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ase of S. R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orward and backward digit spans norm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igit span unaffected by a dual ta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ests of executive functioning (card sorting) done poor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pisod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everely impaired person recogni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"Silly Sentences" tes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  <a:ea typeface="Times New Roman"/>
              </a:rPr>
              <a:t>Rejected 2/28 trues "Snails have shells"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  <a:ea typeface="Times New Roman"/>
              </a:rPr>
              <a:t>Accepted 9/28 falses "Hairbrushes have roofs“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Unable to distinguish between words and nonwor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uld only identify 9/53 faces, the royal family, Margaret Thatcher and Adolf Hitl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uld only identify 6/10 very famous nam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Condition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at Affect Memor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oss of specific knowledge or skill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ugs and Alcoho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ynesthesi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ress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ronic depression can lead to memory probl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ndency to retrieve more negative even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helps perseverate the depre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rt-term and nondeclarative memory inta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lems retrieving long-term memories, particularly episodic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tard delu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severe, extreme response to profound depre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on feels as if they have d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cits in both sensory and memory process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ngs do not seem famili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s both episodic and semant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Patholo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xiet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ng-term memory is less affec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rt-term memory is comprom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acity filled with thoughts of what a person is worrying abou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orking Memor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nd Complex Process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gative, anxious thoughts can clog working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udents who write about their anxieties show reduced intr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d anxieties reduce intrusions, and functionally increase capacity, making cognition better overa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ss of Specific Knowledge or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ha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language memories (procedu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u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music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ability to name obj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pagno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ability to identify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ss of Specific Knowledge or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evere anom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mpaired single word comprehe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d exemplar generation for categ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a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paring of language (syntax and phonolog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unimpaired perceptual and motor skil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eserved episodic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a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onspecific neuronal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edominantly tempo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ss of Specific Knowledge or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antom lim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a body part is lost, there may be feelings that it is still pre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ortion of cortex dedicated to that body part remai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antom limbs may be shortened as memories are forgot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rugs and Alcoh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rug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y drugs can affect memor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cus here is on benodiazepin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.g., Valium and Halc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reased GABAnergic process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terograde amnesia symptom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clarative memory encoding hur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ndeclarative memory less affecte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troactive interference effects diminish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lunted emotion effects on memor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rugs and Alcoh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coho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mory is worse under alcohol: anterograde amnes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oorer working memory, episodic memory, prospective memory, and metamemory (overconfidenc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road degradation of cognitive process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ruption of ERS and ERD in EEG recording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troactive interference effects diminish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y be related to increased glucose level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mory deficits even occur if people only think they have been drink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ynesth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dition in which signals from one sensory modality are interpreted in an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, seeing colors when reading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possible reas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suppression of inappropriate feedback loops in perce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omplete pruning of cortical connections during develo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 of memories along with difficulty learning new inform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Alzheimer’s Disease (A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A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cortical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dement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Parkinson’s Disease (P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A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subcortical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dement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Huntington’s Disease (H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Another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subcortical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dement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ynesth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uria’s 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nesthetes report better memories than contro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nesthetes have greater working memory spa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information  that taps  into their sensory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ynesth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nesthetes do show some memory probl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not show color von Restorff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disrupted if word color does not match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likely to use mental model based memories, but rely more on verbatim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5% of people over 65 have some kind of dement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5-47% over 85 have some kind of dement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50% of the over 65 people with dementia have 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zheimer’s Disea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ot a natural consequence of a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irst described by Alios Alzheimer in 190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ccurately diagnosed post-mor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o clear pattern of impairments identifies 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studies of AD include people with another condi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atients present different patterns at different tim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lzheimer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myloid plaques and neurofibrallary tang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stly in hippocampus and association ar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myloid plaque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70 microns in diamet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n is 10-30 micr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entral core of amyloid protei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urrounded by microglia, degenerating ax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t is not the presence of plaques, but clusters of them that is importa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lzheimer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myloid plaques and neurofibrallary tang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fibrallary tangl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angle in filaments in cellular cytopla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radually fill the cell, pushing the nucleus to one side and extending into the dendrites and ax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 of mitochondria and riboso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nergy and protein synthesis for the ce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Stages of AD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Earl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mild forgetfulnes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tendency to misplace object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-finding difficulti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trouble with familiar names &amp; slight impairments in mental efficiency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Early to Middle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-finding difficulties become more noticeab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perception and route finding are impaired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Times New Roman"/>
              </a:rPr>
              <a:t>starting with unfamiliar places and then to more familiar environment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Midd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severe memory and language impairments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impaired judgment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Times New Roman"/>
              </a:rPr>
              <a:t>cannot function independently outside the hom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Times New Roman"/>
              </a:rPr>
              <a:t>need help in hygiene, feeding, dressing, etc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ment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tages of A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may not recognize spouse, children, or self in a mirro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language abilities almost completely g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delusions and hallucinat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bizarre behavior, such as hoard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clear signs of neurological dysfunc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seizures, incontin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infantile reflexes re-emerg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ea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3:22:11Z</dcterms:created>
  <dc:creator>Gabriel Radvansky</dc:creator>
  <dc:description/>
  <dc:language>en-US</dc:language>
  <cp:lastModifiedBy>Rinaldirg</cp:lastModifiedBy>
  <dcterms:modified xsi:type="dcterms:W3CDTF">2011-05-11T20:36:39Z</dcterms:modified>
  <cp:revision>240</cp:revision>
  <dc:subject/>
  <dc:title>Memory and Aging</dc:title>
</cp:coreProperties>
</file>