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D79-87CA-4728-89EE-16B9D05C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824-EC90-4145-912D-345EE2F56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BDC-8D68-4B28-8C3E-5363BD24A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C0E-BFC3-43C7-BE30-FF0909ABD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6B4-B2E4-42C6-94EE-A33F44048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0A3-30D6-43C0-96A3-EBBCDD157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98F-2D3B-4BB5-BCED-0764C2E82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62E8-9123-493F-86A0-57675D762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F62F-67A4-4084-A63B-39E3BCA14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F05-E7F9-4038-87FC-56FAE7491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666-CBE5-49A2-8F55-50BA7F936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4DD0-9E0E-4129-8EBE-18DFC360C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BAA-3B9B-4F2B-BD91-4BA0C53906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8276-1F87-4A95-94A4-00C59F4E8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894-8263-43C0-8206-CAC287597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3917-02E3-427D-94ED-DBDE464C6D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1EE3-EAB4-4F91-ACD4-B0A8EA17B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CB5-4804-4514-BC96-E1963F9DF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FFB-FBAF-4756-9C7D-BF67F5332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9C0-2C02-4E05-BE7B-BC39456921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6A8-1006-4FC1-B0B5-6767FEBEC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8C3C-4B8E-43E3-8693-37A6102A8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00B3-B7B0-43BA-8902-829DA647A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C949-BED5-461C-82FD-D4FE5EE6BA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CE3-7880-446E-9B77-5C02FE407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1DF-6F7A-4709-9C06-D49861435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640-0799-43F1-9791-80E83F5C28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562-6530-4309-9301-D8C4C6EA55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725-B892-4DD3-82B9-18160C7ADC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C28-6EB4-44CF-B44C-EC97E02DC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33A-0027-48EF-AF5A-055C6C09A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CDAE-FA56-46A7-A0FA-F3E6D9E064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B9D1-9D12-4086-84FA-A2A341039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232-CFB7-4A4D-B26C-55AC5551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ADB-2FA1-44ED-A412-F606B59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60E-13CE-4D93-8AD8-C6C32FE2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2AE-82D4-4134-8FC0-D2F885B4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4A6E-2D7B-4CF1-88C9-75F1FA98B0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8F90-8F27-46C6-984D-4F73D7DF28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E4F7-665C-4A81-AED1-FFACAC49D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03D2-81BB-4DDC-804B-7121B4571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FD8C-B798-4ECF-BA8F-DC70E2CEB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07F99-8E92-4966-839B-27BA6EDEE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864E1-A675-4D45-A259-CCC30A27A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82F-2898-4CFC-8EB1-C9F3721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CA18B-022B-4D5F-8135-791FCB9AE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45701-797B-4667-B608-A613479B8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A7A4-B66F-4D40-A029-14ACF8CA4F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6CA4F-6B18-4D7F-982C-E29CD08A22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567B-5A38-45EE-850A-C389E069A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F79-A697-41A1-BA3F-CB8EF30B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F23-CF9E-4D6A-8E19-2ED2E89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467-FFBE-494B-8BC3-BA4401B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8B0-B288-47DB-8A84-D59B3D5B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BEF-3AA7-46D2-810F-2FCDB62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128-E26E-4B56-9566-FB93912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CBE-35B1-45B3-94FE-67F7225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20F8-5E1A-4659-AB3C-B58D030B8BC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48D-6848-48C0-BC90-61AE927D6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0B2A-5377-48E4-8C72-48F33DE83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54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8954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–Memory and the Law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coexistence theory (block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sleading information obscures the original memory because it is more rec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worse if people recall the event prior to mis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when original context is reinst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if people are warned of misleading information befor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sponse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person eith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Does not remember the origin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Only remembers the later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select the correct choice when misleading alternative is not giv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 fail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rrors reflect a failure to identify the sou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misremember where information came fr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likely to occur in dissociative think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rousal and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though some memories can be easily altered, central information may not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er levels of arousal associated with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ecreased memory for peripheral detai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for central detai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Mincho"/>
              </a:rPr>
              <a:t>Easterbrook hypothe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Mincho"/>
              </a:rPr>
              <a:t>At higher levels of emotion, people focus attention on a narrower range of detai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eapon foc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ttention is drawn to a weap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for this is very robu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ipheral information is more susceptible to misleading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hn Dean’s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hn De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sel to President Nixon during Waterg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orted a cover-up to congr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ubbed “The human tape recorder” by the pr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l tape recordings surfaced after his testimony had been g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hn Dean’s memory was inaccurate for the precise details of what went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 memory was accurate for the gist of what had occur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Conf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reliable is eyewitness confide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quite low (e.g., r = .29 to .4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Conf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t-identification feedb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sitive feedback increases confid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firmation from other witnesses increases confid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mber of times a question is ask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often leads to more confid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mory and the La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yewitness testimon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yewitness confi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gnitive int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gnitive Int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nciples of encoding-specificity and mood-congruent 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cilitates accurate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courage reporting whatever is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s problems of response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recalling at different po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s set retrieval pl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gnitive Int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ernate persp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courages different retrieval ro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 not interrupt the wit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lows weaker memories to eme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gsho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ctures of known/suspected crimin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mistaken is made, memory is biased toward the chosen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ility to later identify perpetrator is low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misremember that a face was seen in mugshots and not at the cr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rce monitoring probl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ce line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dentifying a perpetrator from among a set of alternati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wo bad thi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sidentifying an innocent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ing to identify the crimi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ers plus a suspect/target (?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a forced choice recognition ta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ive judgment princi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can mis-identification errors be reduc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up fill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greater the dissimilarity of a filler to a suspect, the greater the likelihood of misident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llers should fit the verbal 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llers should be similar in other ways as well if possi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up instru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ewers need to be told that perpetrator may not be pre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there” is an appropriate respo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curate identification reduced 2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-identification reduced 42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yewitness Identific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quential versus simultaneous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ultaneous encourages relative judg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as to pick one that looks most like the perpetra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quential encourages an absolute criter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is the person or no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ultaneous -- 43% misident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quential -- 17% misident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ries are biased by information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is a strong recency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ck juries come to different conclusions when same information is presented in different ord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a witness is inconsiste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urors do remember what was said on multiple occa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ss winning to trust information from the wit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ing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can be influenced by the wording of ques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an incident on video, people are more likely to say they saw something when the question used a definite article (e.g., "the") than an indefinite article (e.g., "a"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rors may sometimes hear things they should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is affect their jud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essentially directed forg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heard information that was eithe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appropriately presented (forge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nted but irrelevant (forge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nted and relevant (rememb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ented but inappropriate info biases juries more than irrelevant inf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ry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2498760"/>
        </p:xfrm>
        <a:graphic>
          <a:graphicData uri="http://schemas.openxmlformats.org/drawingml/2006/table">
            <a:tbl>
              <a:tblPr/>
              <a:tblGrid>
                <a:gridCol w="3962520"/>
                <a:gridCol w="190476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all memo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acter judg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ppropriately presen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ed and irrelev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ed and relev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748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 used in ques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timated spe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sh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m.p.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i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m.p.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mp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m.p.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m.p.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m.p.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1981080"/>
        </p:xfrm>
        <a:graphic>
          <a:graphicData uri="http://schemas.openxmlformats.org/drawingml/2006/table">
            <a:tbl>
              <a:tblPr/>
              <a:tblGrid>
                <a:gridCol w="518148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te of saying “yes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you see a broken headligh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you see the broken headligh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sleading post-event sugges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isleading information is presented after an ev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changes to accommodate the misleading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asic paradig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n event is witnessed (on vide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ither a narrative is read or a series of questions are ask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rr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Did the repairman set down hi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hammer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before taking the calculator?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corr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Did the repairman set down hi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screwdriver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before taking the calculator?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eut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Did the repairman set down hi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ool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before taking the calculator?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memory test is given, usually recogni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ammer (correc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crewdriver (misleading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rench (new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 the correct condition the correct item is picked more of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 the misled condition the correct item is selected less often and the misleading item more of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Eyewitness Testim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change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sleading information replaces the original, which is lo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people make a second guess, they are at chance to select the correct i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22:20:38Z</dcterms:created>
  <dc:creator>Gabriel Radvansky</dc:creator>
  <dc:description/>
  <dc:language>en-US</dc:language>
  <cp:lastModifiedBy>Rinaldirg</cp:lastModifiedBy>
  <dcterms:modified xsi:type="dcterms:W3CDTF">2011-05-11T20:35:34Z</dcterms:modified>
  <cp:revision>159</cp:revision>
  <dc:subject/>
  <dc:title>Situation models</dc:title>
</cp:coreProperties>
</file>