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3371-67ED-42D2-9FB9-FCC0E5A0E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188-7DA0-4ED8-BAD2-BF2CD75E6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446-1289-4633-9D94-44DA0FCBD8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E557-030F-4310-BE16-FAE54117A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816C-8A78-41E8-87C4-47B0A0166C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B0A-CD92-4D2E-92FB-FCF68ECF2D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E470-A63C-4CA3-93D9-401D16E15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4A3C-79E7-4E30-9554-C4BF171DDB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FF15-FA41-492E-84CD-4239BA48C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F923-EFB0-427D-8B59-EAF7B70FB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B2E-BF66-40C4-B87E-4A6F516876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8263-5723-4CBB-836D-F19B7CB5F0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33C-02F8-4DA6-B178-CC7A6474E5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030D-9DF0-49D7-99C5-66721BDB0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DE9-C610-47E2-807C-FD1BB0CD29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2760-E920-41CB-8D49-555219CF9A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F4C9-2342-49AB-879A-2A2C4B9D27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86AD-9479-4CBC-AAB4-622CF821C6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144-F35E-47A0-BA34-0895B4FBF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34C2-98EC-4C08-A39F-7B0BE11DA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2DE-9B27-419D-98BE-B82679690F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578-5A1B-4E6D-9AFB-8857B8D801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FB87-3534-48E0-A831-4ADF7CF22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462F-5BD0-4FFC-B8E8-3C334B8143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B92-6AAE-434F-8C30-5462D1D15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2131-649E-4532-AA6A-38C7E56CCE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2BF5-DAED-44E7-A506-921A8AC74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705-DDB7-4498-B862-01735B26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223-0AA4-49F2-BEBE-9B254539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885-F9C2-4905-BA09-4B5A98B7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CED-E47C-464E-B8E0-AC0AD249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0B021-63E6-4F64-8259-5D32430E58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AF522-3B44-40FE-A696-B0E755CCF9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E7BD5-6E1C-4611-8823-D38CD2D10E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79E39-A4D0-471C-A1EE-5272E92157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BC49A-5C93-4CAA-BBF0-E60742711F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2F0E9-A2D8-4A13-8278-8E123B5C2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EA48-36F5-4730-A1BB-B6A3C131E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DD2-57E9-413C-86FD-7522CA5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C02E-85E1-4646-9CBD-EDE81E499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7D0B-AB18-4159-A808-FF36407255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E3ED6-E1E2-4BD3-B315-D9BCAF328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F1576-6CC3-499B-8289-3E3A9C0B3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80CD6-6343-4D0E-AFA7-97B61DB3E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AE7-FA9D-4E88-85F0-A1A6F226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346-9B69-41F0-AD73-BACA6BC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184-F955-4642-8355-FC80F35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260-0EE9-49C7-9EFC-7AE44686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3C2-DD5A-4059-B92A-8A5CE2E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6D6-D4CF-41CF-B682-6F8D29D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6B7-D7D3-4312-96E5-39995CA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837-E1ED-4797-937D-E995D24A982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49F-2124-47D1-B988-04C82D7475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6AD-7F35-4FF4-BF78-26811F8460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477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04812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6 – Amnesia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lation of anterograde amnesia to memory distin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- Long-ter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 spared, long-term memory affec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cedural - Declar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cedural memory spared, declarative memory affec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mplicit - Explic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mplicit memory spared, explicit memory affec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l temporal lobe and hippocampus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of H.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nry Molaison (Feb. 26, 1926 – Dec. 2, 200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the encoding and storage of declarative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ncephalic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mus, hypothalamus, mammilary bod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orsakoff’s syndr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control of thou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ndency to confabul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equences of anterograde amnes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lems acquiring new episodic and autobiographical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von Restorff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 semantic memories may be acquired, but with great difficul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 nondeclarative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ming is largely int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ing with anterograd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can potentially harm themselves and oth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ten over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eila Moakes (teach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.C. (law stud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r. 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ixture of Retrograde and Anterograde Amnes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ient global amnesia (TG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brief amnesia peri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GA episodes typically last 3 to 8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icult to stu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ixture of Retrograde and Anterograde Amnes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lost from a period between a few hours to several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ss of a few months most comm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nesia can be d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man surprised at finding fingers missing that had been lost 4 months pri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on in a confused st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ten repeatedly ask the same ques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ixture of Retrograde and Anterograde Amnes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ically occurs in people age 50-7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preceded by stressful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ither physical or emot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y be caused by a disruption in blood f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hort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nesia may affect short-term, but not long-term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of K.F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macy effect but not a recency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hort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 to the parietal lobes, near the frontal lobes (verbal informa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 to the parietal lobes, near the occipital lobes (visual/spatial informa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ort-term memory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nesia for life events or personal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related to clear physiological (e.g., drunk) or neurological changes (e.g., brain les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udian concep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ies with threatening content are repres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tects consciousness from painful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lear stat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sociativ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ability to recall important personal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ually a traumatic or stressful ev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han typical forgetful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ss about forgetful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sociativ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ystematized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nesia related to traumatic ev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lized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nesia for a block of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neralized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nesia for nearly all of a person’s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sociative Fug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dden, unexpected travel from usual surroundings with amnesia of former lif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lows traumatic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ually time-limi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on may suddenly remember who they 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ter recovery there is amnesia for the fugue 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sociative Fug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gue and fli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ange in both identity and lo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fug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ss of memories but core identity is int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ression fug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ersion to an earlier period of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sychogenic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sociative Identity Dis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erly multiple personality dis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be amnesia across ident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nesia asymmetr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explicit than implicit memory lo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auses of amnes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low to the hea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ection (encephaliti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trok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lzheimer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lcoholism (Korsakoff’s syndrom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urgical interv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rograd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memories prior to an incid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erograd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ability to create new memories after an incid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ograd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 events prior to the inju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sruption of memory consolid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Long-term potenti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enomen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ded loss of memories (Ribot’s Law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recent memories l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ld memories retain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overy of memories over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event, not semantic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sic personality unaffec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ing for retrograd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king about a person’s pa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 the d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mes of relati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obs work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mous faces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rolled induction of retrograd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convulsive Therapy (EC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to treat severe depre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trograde amnesia for several mon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njamin Franklin’s accou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convulsive Shock (EC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with anim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trograde amnesia is induc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Memory Amnes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nterograde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ability to learn new information after the inju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ay improve when dominant amnesia is retrogra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manent when anterograde amnesia is more promin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8:22:33Z</dcterms:created>
  <dc:creator>Gabriel Radvansky</dc:creator>
  <dc:description/>
  <dc:language>en-US</dc:language>
  <cp:lastModifiedBy>Rinaldirg</cp:lastModifiedBy>
  <dcterms:modified xsi:type="dcterms:W3CDTF">2011-05-11T20:36:17Z</dcterms:modified>
  <cp:revision>174</cp:revision>
  <dc:subject/>
  <dc:title>Types of Long-Term Memories</dc:title>
</cp:coreProperties>
</file>