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BC79-C6E0-42AC-A15D-A1166842C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21E-5C09-4186-8E98-F5E5BC1A5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C35A-4D0A-4DEA-B08A-D871442936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F0A3-4B09-4D1B-8A5C-68DE265CE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6E7-7D50-4646-A257-546C521391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3AB4-795E-4436-9488-B3E07C28A1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34AC-3D9F-4443-B61A-D2795FC60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66E-F36E-4AA4-8A0E-AF4785C6E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A5C-2C76-45E8-BAAA-8202CFD97D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5D2A-CC7A-4D37-85EA-2116D631E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4915-EFEB-495B-B6FA-49A0959043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1B3-7CFF-4878-A95A-422EF8F144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7BBF-8D70-47C9-8275-A89379818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D82B-8462-49DE-9FDF-22B87718B2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C5AD-1071-47B0-89A0-CA1841A805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6545-8735-4A7A-8C59-1CC409BD7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7618-D3EC-479D-9CA1-F196CBFC39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023-7398-4F4D-A128-3A69F1E47F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04A2-724A-4D85-8ACD-09EF9E881E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757-EAAD-4198-8C47-BF963FC43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6832-242D-4C3D-9545-B49776B9A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EC0-16F9-4D1F-B00B-F2F703F8EC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49B-24D8-4B02-9BC9-D0009D806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2520-526D-453B-B12A-71C290719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C525-0FFB-4888-AD1F-85E695F0F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F02E-BD0B-4910-A31D-4B4013BA2D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893E-9715-4188-AE7D-FD513FDB40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BA9F-A08B-4B4D-B383-C54BE5445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628-A8F1-42E1-A2A2-B7E331BC38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30A9-B59F-474E-90A4-B996C71242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F8A-8BD5-4494-81C5-C8E57088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248-F7C7-405A-9EE5-8BA369BD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228-39C4-4559-BBE2-999A251E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69C-19AF-48CE-86A0-2B81C007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F1A08-D718-4427-A668-E8C69CC36E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222A7-744D-4B91-BF6C-815A641B98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E5B97-D61B-42CF-99BD-EBE9BF789E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C7A00-DBAC-4A55-916E-208418B7F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00471-7D5D-44FC-8FFD-A5975E29D8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C5E70-9731-4020-A54A-75B35A02B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A6CFA-CED1-4DBE-A9E6-95C5D7596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CA7-E694-4CB9-B8E6-BAC234E1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FB4DF-75FA-4F0D-8C9B-4361FCDDD5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F817B-7DCC-4CF7-9C1F-2ED3F9F0D4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99C7C-A5EB-434B-8E49-C869CF595F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2606C-F627-4D50-936A-7F7358C7F0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70DE2-B354-411C-8950-0BC1FA7AC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F48-D458-4986-B6D7-9FAF97F1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6B3-10D3-4238-B4F5-A505216F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A54-01C8-4F3D-98DC-39BD310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9E2-BBDE-4D5B-BC9A-2E7BB13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58F-6D67-4D77-98C8-F694F5A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F28-FB12-4F33-8FB3-387E60E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97B-5C6C-4EC1-89A8-E900A18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89A-16F6-4996-92EA-223AD5299A8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51A-3412-4C34-BDA5-0AC76CBC3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BD3F-B1C2-4736-A1E4-79322ECFA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684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6 – Nondeclarative Memory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re Exposure Effe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 grows stronger with more expos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so better if there are different contex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 to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a large number of exposures (over 100) the effect decli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ausal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 has moved from classical conditioning to how people derive causal rel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assical conditioning often captures causal rel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me causal learning appears to be associ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learning may be more inferenti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Instrumental Cond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rganism interacts with the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rdike’s Law of Effec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sponse consequences determines whether it is strengthened or weaken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sitive effects lead to response strengthe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gative or neutral effects lead to response weake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cedu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for how to do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ill acquis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tor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cedural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ges of skill acquis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gnitive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cious and deliberate a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ociative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rect access of memories, still conscio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utonomous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conscious and automa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otor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unconsciously remember how to do various motor tas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fter a motor skill is acquired, it can be disrupted by consciously thinking about 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oking under press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outside of conscious aware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idental learning depends on implicit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rect tests of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ndirec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not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because no test is process p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s that do not explicitly require people to remem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m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etition prim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studies of re-read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mantic prim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ies can be primed in different w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unobtrusively exposed to odor of cleaning solu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onded faster to cleaning wo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sted cleaning in daily activities more oft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ept their work area clean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al t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d Stem Comple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d Fragment Comple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xical Deci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ery popul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ndeclarative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ditio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al Lear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dural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nverbal tas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ceptual identifi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sible / impossible obje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re exposure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can implicitly make analogous transf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ad a text, in which there is a set of relations among ele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then read a text that is on a different topic, but with an analogous 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ad the second text faster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Day &amp; Gentner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licit analogical transfer also applies to social 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ad about the acceptance of gay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read a about the persecution of left-hand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text may or may not contain paragraph making an ana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analogy paragraph, people make inferences that what happened to the first group (gays), also was described as happening to the second (lefti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rection of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ttom-up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.k.a. data-driven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cessing driven by the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influenced by implicit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p-down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.k.a. conceptually driven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cessing driven by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influenced by explicit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quence lear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plicit learning of repetitive seq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issen and Bullemer (198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w of four dots light up in sequence ei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andom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peating 10 light seq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tificial gramma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exposed to sequences that do or do not conform to a pre-specified generation pl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people implicitly learn the rules of the sequen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shown sequences of grammatical and ungrammatical str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mmatic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VXV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PP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VXXX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grammatic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XVSPV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PT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XXX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can identify grammatical strings above ch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learn rules w/o conscious aware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ing can transfer to new, different assignments of el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under anesth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do people remember, if anything when under anesthesia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there is no conscious awareness, this is implicit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cit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studies do show learning under anesth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t Lady” syndr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results are difficult to replic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unproven, but tantalizing possibi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.k.a. Pavolvian conditio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omponents of classical condition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U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Unconditioned Stimulus 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UC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U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Unconditioned Response 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UC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Neutral Stim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onditioned Stim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onditioned Respon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Parad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things can be conditio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iv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yeblink respon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otional respon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ar (phobi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lax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phenomen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itial learn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Conditioned association takes time to develo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gett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Extin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ssociation weakens in the absence of any U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phenomen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pontaneous Recover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crease in CR after extinction with a delay since last CS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aving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duced re-acquisition time/effort after extin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assical Cond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associations are formed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Stimulu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 Respon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CS causes the C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Stimulu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 Stimulu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CS predicts the US, and the organism initiates a preparatory C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st classical conditioning involves 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S associ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re Exposure Effe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prefer things they have been exposed to bef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ven with no conscious memory of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long as the experience was not negative, it is treated as posi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declarative memory influences prefer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6:20:58Z</dcterms:created>
  <dc:creator>Gabriel Radvansky</dc:creator>
  <dc:description/>
  <dc:language>en-US</dc:language>
  <cp:lastModifiedBy>Rinaldirg</cp:lastModifiedBy>
  <dcterms:modified xsi:type="dcterms:W3CDTF">2011-05-11T20:33:39Z</dcterms:modified>
  <cp:revision>216</cp:revision>
  <dc:subject/>
  <dc:title>Verbal short-term memory</dc:title>
</cp:coreProperties>
</file>