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7239B-D998-4DF0-A212-DECCB7B1B3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556EF-FAD0-4AB3-837B-D9537F82D00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3800" cy="34304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8A415-BDDD-42FC-A558-9F84EB543F9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A8F84-C7E5-44BF-9B18-B0E35DCC4A5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0F1AE-58DC-42EB-AABB-A9398C73318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29C95-CFD2-4990-A8CC-3BAD3B2F513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281CF-BBDC-4AEF-91D4-1463118911C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3F21D-0089-40BD-872F-6AC7A65C4B5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35768-93DF-4A9F-9F99-783D3895DDD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910DE-6760-4509-9F88-75D03620132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6A6E5-A1DB-4723-A2B4-91F01DB8C4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5BE87-6C55-44FE-A984-510D8F1E26A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B89CF-09D9-4BEF-B540-D4EE755D7E0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6511F-3A12-40F1-B755-945BCCFFBFA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615B7-649E-4694-B00B-639652824B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A4D68-3FF3-45B5-9D2A-20AADCA0140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E0782-FE89-4722-A60E-E0CF50D5E4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64950-10C5-44AE-B0BC-83DDF7E1271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312FB-8CC4-41B7-95D2-CF41D8F5E84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D2117-ADC0-4246-A43A-4C418CED670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44B1A-4A9F-40AD-AF13-5F5F890B51C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1DDC3-046F-445D-AA99-D57154B0E64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27262-D9EB-4DA2-8F4B-16BE8410042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C9752-16CC-43E2-B164-8D6D81A743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3A83E-586D-4679-94DF-5493DE5954B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AACE3-CDF4-4F90-9D0F-2AD4C006048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939C3-B8D3-43E2-A321-8544EB7499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1CD3B-ED12-4E96-A597-64D7A8A8C8B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74727-5F6A-431B-8C38-CC6DB6B8FDB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95C80-2CEA-495C-8C7B-817CFDF2589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7E553-DE52-4C4C-9D74-847C0F19C64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FC452-8B0A-4557-BE20-F8CB3BA82DC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FB32D-FE10-4448-910D-59600689AFE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BB3C7-99CB-4686-877F-FB95F8C2321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4EB76-326B-4D23-9777-072066B3D72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04032-B377-4766-A5F6-A41216AC236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D3848-9E6B-4747-9C64-11FBF770EED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48808-46EF-4F3D-8D9E-2D900B20B05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B5C16-1764-40CE-8596-BE689139264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11492-8917-45E8-9C2D-8240C0632EE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00E1C-F169-4AEE-89C4-AAFD1C99AD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145C-F87A-4785-930D-B54F0D4BA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AD40-3A17-4681-8431-67841B21C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98AD-3488-4409-8897-484692936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29CC-9AC8-4572-BDC3-3CED70D9C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BEBA4F-93A9-4381-9125-944D990FAD5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5A75FF-2D1C-4511-A4E9-E5E6C242578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63C6AC-F799-4A55-94B1-AD704F06234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8F086A-8B40-4817-AD47-2C4B8BE2A8E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632D64-B9DD-480E-B5FF-D8426B77D34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DB5823-DCCC-432D-98BC-26154CAE96C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A15B34-5285-48EA-800C-C727CAC864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031E-7FA3-4C01-9451-2A5B7C38C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84F304-579E-439B-9B41-D719347A9E9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EFE599-DD29-4DEE-BEFC-54994F2FFCF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505CC8-01B9-40F8-9B9C-2CA5567CEF9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4480DD-4D28-4F29-B67A-54D216F44D9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74B942-17A6-4FAA-A637-AF60552AD4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DC85-0776-4C0C-BFC7-7020581C1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7076-444F-4AE4-A8BA-0A3EBAD96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7A6D-1753-4BB7-BA00-BD5650219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36F6-057E-46C1-BA54-87F70E45E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2AC5-9BAD-43EA-B644-1CE2A54A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F585-FEEB-40B9-92A7-4224E1BE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FC04-E127-4070-A243-35841706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585ED-F39E-4B24-AD27-C59B3EA4F130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pyright © Pearson Education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821BB-7175-4B60-92FB-0E198446F23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71EB2-9A53-4B01-8F7C-8E5A79DB387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971440" y="61718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pyright © Pearson Education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5"/>
          <p:cNvSpPr/>
          <p:nvPr/>
        </p:nvSpPr>
        <p:spPr>
          <a:xfrm>
            <a:off x="2971800" y="61722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uman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Picture 4" descr="Radvansky1b1"/>
          <p:cNvPicPr/>
          <p:nvPr/>
        </p:nvPicPr>
        <p:blipFill>
          <a:blip r:embed="rId1"/>
          <a:stretch/>
        </p:blipFill>
        <p:spPr>
          <a:xfrm>
            <a:off x="760320" y="1600200"/>
            <a:ext cx="2252880" cy="29718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48320" y="266688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Gabriel Radvansk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Footer Placeholder 5"/>
          <p:cNvSpPr/>
          <p:nvPr/>
        </p:nvSpPr>
        <p:spPr>
          <a:xfrm>
            <a:off x="457200" y="62485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822240" y="4925880"/>
            <a:ext cx="74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pter 9 – Semantic Memory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228600" y="5535720"/>
            <a:ext cx="8381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is multimedia product and its contents are protected under copyright law. The following are prohibited by law: any public performance or display, including transmission of any image over a network; preparation of any derivative work, including extraction, in whole or in part, of any images; any rental, lease, or lending program.</a:t>
            </a:r>
            <a:endParaRPr b="0" lang="en-US" sz="1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Nature of Semantic Inform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Semantic information captures perceptual qualities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RP recording show th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oncrete nouns activate more sensory cortex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ction verbs activate more motor cortex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Embodied cognition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trieval shows evidence of perceptual effor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or “fish,” the property “scales” is easy to remember, but “eye” is more difficult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acilitation along sensory modaliti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aster responding to “BLENDER-loud”  (indicating 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is a property of 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blender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) if it follows “LEAVES-rustling” (sound) than “CRANBERRIES-tart” (taste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Concepts and Categori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e know a lot about the worl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ather than remember lots of pieces of information, we group it togeth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ifferent items seem similar in some wa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milarity-based grouping is categoriz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wo or more entities are treated as though they are equival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Concepts and Categori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y do we categorize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edict our environm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pend less time and effort think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Concepts and Categori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vels of categoriz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ree levels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perordinat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asic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bordinat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eople prefer basic to the oth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Concepts and Categori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asic level attributes are listed most ofte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etails in subordinate categories provide potentially unnecessary inform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uperordinate categories may not be specific enough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Concepts and Categori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Classical view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Category members share some characteristics, with deviation on nonessential one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Fundamental ones are 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necessary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 and 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suffici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Times New Roman"/>
              </a:rPr>
              <a:t>Logical rules of category assignment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Based on biological categorization method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Concepts and Categori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Problems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Not all categories have defining featur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Chai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Category membership is grade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Ambiguous cas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Is a pencil a tool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Concepts and Categori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Probabilistic view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Categories are derived from a probabilistic understanding of co-occurren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Central tendency and family resemblan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Concepts and Categori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Prototype view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Prototype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is an average of all category membe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The best example (central tendency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Most categories do not have a real world prototyp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The prototype is an idealized objec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Category decisions are based on how "close" an example is to the prototyp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Concepts and Categori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ble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totypes only convey central tendency, not category size, variability, or correlated attribut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emantic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38080" y="2209680"/>
            <a:ext cx="746784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mantic prim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cepts and categori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rdered relati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chemas and scrip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blems with semantic memo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Concepts and Categori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xemplar view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ll category examples are stored in memor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ategories are an average of all examples in memor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nsitive to frequency and central tendency inform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Concepts and Categori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blems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ategories are context sensitiv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Gray clouds or gray hai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d-hoc categories similar to regular categori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o explanation of why we form categori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ircularity proble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re things in a category because they are similar or are they similar because they form a category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Concepts and Categori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Explanation-based categoriz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People need a reason why things should be in a categor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Feature similarity is insuffici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Similarity provides a guide to structure, from which the theory is derive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Concepts and Categori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Similarity includes attributes, relations and higher order rela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Properties are not independ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Concepts are more than a set of featur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Concepts and Categori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The functionality of components to the whole and to the world are of critical importan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eople judge causes to be more important to identifying categories than effec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Concepts and Categori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sychological essentialis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eople act as if things have common underlying essen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ories provide link between essences and surface featur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 view of not how the world is, but how people interpret the worl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Concepts and Categori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uman categorization relies on a combination of prototype, exemplar, and causal explanation knowledg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Ordered Rela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When knowledge conveys an order, this influences memor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Semantic congruity effec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Responses are better when a comparison term matches the end of a continuum that two items are 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For examp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Easy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: A mouse is smaller then a rabbi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Hard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:  A rabbit is larger than a mous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Ordered Rela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Semantic distance effec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People respond faster and more accurately the further apart two items are on a continuu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For examp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Easy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: A mouse is smaller then a hors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Hard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:  A dog is smaller than a sheep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Serial position effec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People respond faster and more accurately to items near the ends of a continuum relative to the midd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For examp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Easy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: A rat is larger then a mous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Hard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:  A sheep is larger than a dog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Ordered Rela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NARC effec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patial-Numerical Association of Response Cod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eople respond to smaller numbers faster with the left hand and larger numbers faster with the righ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Semantic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General world knowledg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Fairly stable knowledge shared with the communit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Schemas and Scrip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Knowledge can influence memory encod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Information that can be compared with what is already known is better remembere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Prior knowledge helps organize new inform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chunk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Schemas and Scrip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Schema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Highly organized generic knowledge structures for familiar domains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Schemas and Scrip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Five operations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Encod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Selection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Schemas identify what is more releva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Abstrac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Selected information is converted to a more basic form, consistent with the structure of the schem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Schemas and Scrip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Encod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Interpreta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Times New Roman"/>
              </a:rPr>
              <a:t>Relevant knowledge is used on abstracted information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Integra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Times New Roman"/>
              </a:rPr>
              <a:t>Information integrated into a single memory trac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Retrieva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Reconstruc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Times New Roman"/>
              </a:rPr>
              <a:t>When information is forgotten, it is filled in with the schema consistent knowledg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Schemas and Scrip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Scrip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Temporally order schema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e.g., what to do in restaura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People take longer to read information that is widely separated in a scrip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People misremember information in an order that more closely corresponds to the scrip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Schemas and Scrip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Memory is not necessarily driven by the use of schemas and scrip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eople recall more accurately if the schema or script is discredite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Problems with Semantic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Semantic illusi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How many animals of each kind did Moses take on the Ark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Moses Illus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Armstrong Illus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Problems with Semantic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Semantic processing is very genera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People only make a partial assessment of semantic memor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Similar sounding words can make things more confus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Problems with Semantic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Naïve physic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People have lots of experience with physical mo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Principles should be easily derived and stored in semantic memor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However, for explicit predictions, errors are often mad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Problems with Semantic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Knowing too much can also cause problem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</a:t>
            </a: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Galileo bia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eople mistakenly believe that two balls of different weights, dropped from 10 meters, will hit the ground simultaneously if released at the same tim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o not take into account wind resistan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rrors based on prior semantic knowledge, with more educated people making more erro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Semantic Prim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Activation of concepts related to what is being thought abou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Primed concepts responded to fast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Also less brain activity observed in ERP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Problems with Semantic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blems understanding devic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ny people treat a thermostat not for setting the ideal temperature but as a heat accelerato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Other examples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Semantic Prim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iming reflects abstract semantic structu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trol: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oats– dog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hared category level: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pples – orang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fferent category levels: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resser– drawe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iming observed at shared category level, not at different category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Semantic Prim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mantic priming takes a time before it is observed after learning something new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s can be facilitate by sleep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Semantic Prim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Automatic prim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Initial priming and most priming thereafter is automatic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Controlled prim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Under some circumstances, priming is controlled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Activation with respect to a goa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Starts after initial automatic compon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Semantic Prim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Mediated prim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Lion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Tiger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Strip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Does occur, but to a lesser exte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Semantic Prim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mantic interconnectivit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more associations, the faster retrieva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rect and indirect connec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orse ra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more horses racing, the more likely there will be a fast completion tim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hibi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lated but unwanted concepts may be inhibite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9T21:47:02Z</dcterms:created>
  <dc:creator>Gabriel Radvansky</dc:creator>
  <dc:description/>
  <dc:language>en-US</dc:language>
  <cp:lastModifiedBy>Rinaldirg</cp:lastModifiedBy>
  <dcterms:modified xsi:type="dcterms:W3CDTF">2011-05-11T20:34:29Z</dcterms:modified>
  <cp:revision>267</cp:revision>
  <dc:subject/>
  <dc:title>Long-Term Memory Encoding</dc:title>
</cp:coreProperties>
</file>