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76000" cy="91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97000" y="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9480" y="686880"/>
            <a:ext cx="4579920" cy="343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9700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E9DB69-9CBF-4369-906F-4C9ACBE76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031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5BF422-8904-44C5-8F37-7E60DDEFBB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81360" cy="34369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B288CC-42CE-4C42-AD4D-4BB0E94C9C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F6D6D5-20C9-44C2-9399-6C22B26383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B79310-972E-4EAD-9021-030750B5AD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2D0690-670B-452D-8CCE-57C1E1DB59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CB904C-0C6C-4967-8A9E-9B7723FB12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CFE4D1-0EC6-40F3-BC20-DDCCA5DDC5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AE427C-1164-4B76-8568-AED58FD83E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E64AEA-F8EC-4C63-B19B-0C2C95244E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BD31F5-672A-407A-9F28-90912308D9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2451E9-06F4-4D2E-BA88-53BDB7B37D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2E1CC7-65BD-49B0-B9AC-43A330F686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3DC480-1B80-4BA8-A108-7A85FC9EF4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BE50FC-D0B3-40CA-8D21-F5E8CADC1B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62C1F8-916A-4CD2-9C1A-8CF7B8DB75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426209-96E9-48CD-AF6D-D504C3AA7F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79B5FA-3C31-4176-B3F4-D623254711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40DA69-FD82-46B6-9036-0BDFB3D6C7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95B6AC-06DC-485E-B8A5-27C7F3F39B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BADB5B-36C3-4A7A-A802-CA7633D470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771BAA-3F4D-42B4-8ADC-EC471F52F0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701886-B7E3-4A22-ACC0-D6E66BBA9C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85D91B-45D7-4F0B-BE3B-EEE7EA31EA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3894FC-E8BC-4266-AE00-54D3389208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D9F334-00F7-488E-AEFA-56A6567531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9D7345-C40C-4213-9E36-36E4AED997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35F97D-37BB-4E9F-9A78-9DB5C47FA0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CA7519-8BD7-4E60-BB44-D123A74357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62CE71-CE7B-4303-B1EB-27B0E7F8EC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8CA8BF-4798-4694-9FEA-24C9BABAE8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F8A542-6F3A-4863-8C66-7565B74C34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4AB87E-20DB-4D13-8A08-2159A870C1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920449-9E2A-4093-A2D0-8087918090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EAEF6C-7EBC-47E5-B5DD-15B43569DA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9E822A-4977-43F3-B6B7-123C100AC9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3D04FE-D1F3-4008-883A-C22BC9829B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870081-DA07-408A-9D10-5E8468FAF6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5B44-65EB-4904-ADFF-6A3D4156F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D33E-2B74-4ADD-98C9-841398B4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BAA6-553F-4F17-AD4D-127315451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C763-4346-4F46-9C41-B89910E14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DD753-8808-4460-9E03-FDDAD3AA9F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1A726-2794-4428-A3CA-E164089973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51572-2B89-47EE-A8A4-2472AA2DD4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4A219-71CE-4B77-8765-59E942C836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F37FE-BEC4-4505-8B89-4144D62E75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DE8E4-A65B-414F-BF4A-69E9AFADD1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06E43-FA34-4BF9-B8C6-54B3F45B29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1A83-84E4-4950-B81D-55C505EA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C8BAC-8088-49EC-8484-F51266C8C5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D76DED-932C-487A-97BE-DC4EE8EC8F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FA42B-8F09-43D0-AE63-C5A09DB8C5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29024-7C00-487C-BCE1-EDEA6A8704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02BED-7E51-43AA-9001-0ABEBA64EB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8303-BFAE-497F-BB53-7318F114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0C14-3B39-4E2E-A3CC-80C850C7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6F25-BD02-4929-9B31-6CD2F0F0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9E5B-5702-45EC-BFEC-68C2BB23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70C3-B6DE-4E23-997B-6C4A7674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8FEA-4A83-4A78-A60C-FE98CF95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23BE-2900-49FB-AABE-4A10D9E2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7981-3A27-4F34-AF4F-D52142FCD9E9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right © Pearson Education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8432-5248-4F44-A5C7-7D13876CDA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5801-A7CF-405C-9D8A-384F6C9FA0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5684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right © Pearson Education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5"/>
          <p:cNvSpPr/>
          <p:nvPr/>
        </p:nvSpPr>
        <p:spPr>
          <a:xfrm>
            <a:off x="457200" y="62485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uman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4" descr="Radvansky1b1"/>
          <p:cNvPicPr/>
          <p:nvPr/>
        </p:nvPicPr>
        <p:blipFill>
          <a:blip r:embed="rId1"/>
          <a:stretch/>
        </p:blipFill>
        <p:spPr>
          <a:xfrm>
            <a:off x="760320" y="1600200"/>
            <a:ext cx="2252880" cy="2971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8320" y="266688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abriel Radvansk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Footer Placeholder 5"/>
          <p:cNvSpPr/>
          <p:nvPr/>
        </p:nvSpPr>
        <p:spPr>
          <a:xfrm>
            <a:off x="457200" y="62485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822240" y="4925880"/>
            <a:ext cx="74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7 – Episodic Memory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28600" y="553572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is multimedia product and its contents are protected under copyright law. The following are prohibited by law: any public performance or display, including transmission of any image over a network; preparation of any derivative work, including extraction, in whole or in part, of any images; any rental, lease, or lending program.</a:t>
            </a:r>
            <a:endParaRPr b="0" lang="en-US" sz="1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Retrieval Cu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Related concept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State-dependent learn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Better memory when internal state is the sam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Mood-dependent learn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Better memory when mood is the sam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Mood-congruent memo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Better retrieval when mood matches memory cont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Retrieval Cu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ople with higher WM capacity are more sensitive to context chang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tra capacity allows people the encode context, and therefore be affected by such chang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Retrieval Cu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Transfer appropriate process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Memory better when retrieval resembles encod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Deep” encoding leads to better memory for meaning-based task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Shallow” encoding leads to better memory for surface-based task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Explicit memory aided by conceptual encoding, but implicit memory by perceptual encod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Forgetting in Episodic Memor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cay or interferenc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likely interference than  deca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Episodic Memory Forgetting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86600" cy="50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Irrelevant Memo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rfere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mechanism of forget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ften tested using paired-associate learning task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Irrelevant Memo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Negative Transf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reviously known information impedes learning new inform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Proactive Interference (PI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Older knowledge impedes retrieval of new knowledg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Interference forward in tim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Retroactive Interference (RI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New knowledge impedes retrieval of old knowledg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Interference backward in tim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Irrelevant Memo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More related information produces greater interfere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Release from P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ith more trials, there is more and more PI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Release from PI occurs if information meaning chang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Irrelevant Memo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ssociative interfere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lated concepts compete during retrieva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an effec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Increase in retrieval time with increased numbers of associatio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Irrelevant Memo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eneral interfere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formation does not need to overlap in content to produce interferen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Jenkins and Dallenbach stud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Jost’s Law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cay is slower for older memory traces (consolidated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Episodic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752480" y="2209320"/>
            <a:ext cx="5943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tents of episodic memor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rrelevant memor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petition and practi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rganization and distinctivenes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Irrelevant Memo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wer memories have more involvement of the hippocamp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w information displaces information currently in the hippocampu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TP is disrupt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ss RI following (slow wave) slee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troactive facilitation is observed if new memory formation is block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Irrelevant Memo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Inhibi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nformation may be inhibited (suppressed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Availability is actively reduc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nhibition vs. repression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Inhibi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Used to reduce interference for short periods of tim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A great deal of evidence for thi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Repress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Active suppression of psychologically threatening content for long periods of tim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Very little evidence for thi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Irrelevant Memo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Part-set cu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bility to remember an item decreases if a subset is given as retrieval cu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Disrupted retrieval pla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Inhibition of non-cued concepts by cued concepts, making them less availab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Irrelevant Memo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gative prim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mory traces that were just suppressed will now be harder to retriev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Irrelevant Memo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peated practice paradig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en some concepts are practiced, other related ones will be inhibit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membering causes forget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Irrelevant Memo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orking memory is important for regulating attention in memory retriev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with high WM span scores do better at retrieval tasks that involve inhibi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Repetition and Practi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Types of practi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Massed practice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studying all at o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Distributed practi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studying across several ev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Holding learning time constant, better memory occurs with distributed practi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Repetition and Practi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Deficient process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Insufficient processing in massed practi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Encoding variabil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Context changes in distributed but not massed practi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Dual process accou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Elements of both deficient processing and encoding variabili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Repetition and Practi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Overlearn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fter perfect retrieval is achieved, and practice continues, overlearning occu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Retrieval time decreases, and forgetting is less pronounc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Repetition and Practi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Permasto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Harry Bahric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Forgetting curve suggests memory loss throughout lif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Bahrick looked at very long term memor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From 3 months to 50 yea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hile some memories decline, others do no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hose that reach a stable state are in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ermastor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ontents of Episodic Memory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ied to specific eve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rial position cur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imacy and recency effe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oing to the theat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ttending a clas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at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To Study or To Tes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mory is better if people take a test than if they simply stud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is the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testing effe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To Study or To Tes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does testing do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duces the rate of forget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duces PI effects from prior study experi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rces more elaborative process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Organization and Distinctiven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rganiz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en people organize information, memory is bett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rganization aids chunking, which facilitates retrieva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Organization and Distinctiven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Von Restorff effe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Distinctive items are remembered bett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Due to differentiation with other items, not isol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For exampl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Truc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Elepha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Airplan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Trai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Ca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Bo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Subway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Organization and Distinctiven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motional information is also more distin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biased to process emotional materia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formation with greater emotional content is remembered bett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Organization and Distinctiven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Bizarre image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Memory is better when people use bizarre image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Only when half or fewer of the items involve bizarre imagery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Does not occur between group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Organization and Distinctiven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Memory is better when people organize inform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Memory is better when people make information distin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Is this a contradiction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Organization and Distinctiven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Organization = relational process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Distinction = item specific processing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mory is improved by the type of processing lacking in a given insta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arrative text learning better with item specific process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pository text learning better with relational process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ontents of Episodic Memory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fferent levels of represent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rface for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erbatim memo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rgotten quickly (a few seconds or minute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xtbas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bstract memory / underlying mean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membered longer, but still soon forgotte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ntal mod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ferential memo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membered for long periods of tim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Episodic Memory Conten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formation about the event itself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t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ircumstances of the experie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tex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Retrieval Cu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Forgetting occurs with a lack of retrieval cu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Memory is content-addressab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Retrieval cues select traces that contain specific cont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hen these cues are absent, a person is less able to access the desired tra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Retrieval Cu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Types of c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Feature c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Components of the original memory or related inform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Context c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election based on learning contex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Retrieval Cu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Types of cue contex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Linguistic contex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e.g., the sentence a word was read i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nternal contex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e.g., state-dependent or mood-dependent learn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Environmental contex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e.g., encoding specifici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Often, both feature and context cues are us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Retrieval Cu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Encoding specific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Better memory when retrieval and encoding contexts matc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Context is incorporated into a memory tra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3T17:47:13Z</dcterms:created>
  <dc:creator>Gabriel Radvansky</dc:creator>
  <dc:description/>
  <dc:language>en-US</dc:language>
  <cp:lastModifiedBy>Rinaldirg</cp:lastModifiedBy>
  <dcterms:modified xsi:type="dcterms:W3CDTF">2011-05-11T20:33:56Z</dcterms:modified>
  <cp:revision>288</cp:revision>
  <dc:subject/>
  <dc:title>Serial order in short-term memory</dc:title>
</cp:coreProperties>
</file>