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BF95-4B54-49EE-9DC3-D2D528C0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242E-9E59-4C13-A03B-0DA7AFDCB7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6429-9323-4044-8345-09717DA2D3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CF45-526D-4DE9-A3D4-B43353D81A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B658-1716-4C3C-B2ED-612E41E137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4979-9E74-484C-8556-C8C32F75C7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CABC-EB20-4DC6-AF6E-7E6E924E8F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F00C-01B6-4A07-88D8-22815F6345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3B5B-EE68-40C5-9391-E917639440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413B-5597-4604-ABF6-D396D74CDB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6A76-2E9D-496A-895A-C7D73F65CF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F0C4-A48F-42A5-9533-FDA81CDFEC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F84F-0455-4B0E-BD46-01A191BAE9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7EC-18C1-4EDD-B61B-888F8F00BE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1EB3-B10E-494E-A6D6-46A2581DD8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946D-41A0-4D4A-A8CD-53EB30EAD0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E17C-BBCF-4D6F-97C9-421C4012F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CD5F-A5A7-4C82-8F19-5F0FABF55F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22E6-8842-40B8-A1CD-D35B5736AE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D067-FEB6-46D9-9EE7-10895B73BF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1E23-885D-4BE6-8FB4-53938D6322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A5BC-CBB8-45D8-9C37-3573B8C2E2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0F24-7FA8-43DA-90D9-05D6AC4AF8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03A7-C8CF-474E-8307-E4A904ABD6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4D7C-2AE6-4DC8-90FF-630948E454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6F14-F352-422E-BDF1-C54F4AD07D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4522-85CE-4E35-9FFD-2DBD646A8A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313B-C82B-4C11-815B-C0F54D9444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73D9-843E-4DE0-A5E8-9FCE5C78C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83EF-055E-4D8B-AE1D-DE711296C7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2079-ED17-49F8-8DEF-BFACAF6A1F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43C4-172E-4DDF-8F64-5351AC653B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E9F-FB66-4A73-ADC1-5AAB0571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35F-9758-4D01-9C9D-B18251B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CA8-BEA2-495E-9F16-283BEA01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45E-E43F-46EC-860F-DDF0E467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4B562-4932-49EC-8799-4F236C8914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235CF-40F3-430F-839E-D02DEA1FC3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94B1C-0E11-4A03-AC99-8320A9C01A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5BF52-B8B5-4A79-A72C-FC7CFFC8A4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8C9A8-B948-4BA4-B1AB-BB5D4C52FB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651FC-5F7A-48A4-B3B3-3CE1847D61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28712-FA4D-4369-8525-D63802C4F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795-29CC-4527-8963-19E95970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0704A-1F0D-4286-B0DE-BEE113AF71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85E24-6C41-49BD-A46B-4B945B4F54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CE9BC-367A-4448-92BB-4DA61485C2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3C267-3414-4CD4-BF47-B84E808E01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62CEC-9B8B-487A-ADF6-F7FB7C9CD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9F1-609F-4351-B4D9-D975A0DE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008-0BD0-4147-BBA0-3F81B9EE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81E-E660-44EE-B02A-61BEB7B4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28D-F9F1-48F0-95EA-C8893366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DD7-5D4B-4873-9B0D-B348245F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A43-F418-4E84-B980-8D36F8CE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A79-968C-4BD5-8A28-8F04B09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5F6-9EB8-4B22-BB5E-6CA654A3529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D63B-1947-4216-A6DC-6B2117BA8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2C21-764D-4B0B-8CD3-D835190834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1 – Autobiographical Memory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Levels of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ursive / hierarchical stru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utobiographical memories capture information at many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vel information can be broken down into finer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 life narra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biographical memory is a person’s life st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tructed from a number of ele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usal conn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 life narra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utobiographical memories are cluste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ilar ev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ilar ti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usally rela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us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ffe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utobiographical memories highly structu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ward-order bi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ortant events easier to acc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 life narra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2438280"/>
          <a:ext cx="8229600" cy="2073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er memori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eld memori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lder memor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er memor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ess emotio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re emotio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self-aware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ess self-aware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 life narra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-Traumatic Stress Disorder (PTS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ess can be lessened if people adopt observer memories of the traumatic event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nders the memory less emotional as the person has detached from the eve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y perseverate the condi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biographical memory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 life narra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ipts and schemas can organize and complete autobiographical mem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vents are comprehended and stored in reference to scripts in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 life narra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ies often contain script inconsisten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often better for script inconsistent than consisten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cript-copy-plus tag 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 reference to a particular script along with tags that denote idiosyncratic aspe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 life narra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od congruent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likely to remember events that match our current moo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lyanna Princi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is a bias to remember positive ev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biographical Memory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d Emo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gative mem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nnel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tendency to focus on critical, central details of negative ev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biographical memories more influenced by emotional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ntensi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al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fantile amnesi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miniscence bum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biographic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acteris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vels of repres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fe narra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o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fantile a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inability to remember life events before the age of 2-4 yea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y does this occur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sychodynamic (Freudia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pression to protect the Ego from threatening psychosexual cont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ulticomponent develop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ny cau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iological iss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hippocampus is not fully develop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eclarative memories are difficult to sto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 development and organ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Understanding of the world and interests chan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ulticomponent develop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anguage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ies become more language influenc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evelopment of the 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offset of infantile amnesia is the inverse of the onset of autobiographical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iniscence bum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tter memory than expected for events occurring around the age of 20 (15-25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ten observed with Galton’s free association tas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ponding with a memory when given a wo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Why is there a reminiscence bump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gnitiv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any of the events of this time are novel 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first tim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al substr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al processes are at their peak, neither maturing nor decli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Identity 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ocially, vocationally, and ideological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ultural Sche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rior knowledge about how a life should progress, and what is importa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eminiscence bump seen for memory for a no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lashbulb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Highly detailed memories for the content and context in which surprising news was hear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ay including information abou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who you were with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who told yo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where you wer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you were wear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ought to be highly resistant to forget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vidence f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remember details for long periods of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reports tend not to change over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vidence again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does show some forget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re is some forgetting from one report to another, and new information may intru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will remember incorrect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ies for the events in one's li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ne’s life narra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imilar to episodic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lso involves interpretive knowled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rganization and integration of disparate ev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urren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lashbulb memories are distinctive, BUT they do show some forget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correct information may come from a number of sources, and become part of the memory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y hold information longer than normal mem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ashbulb memory creation depends 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vel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rpr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ort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otional re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fective attitude (opinions and belief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hearsal (both spoken and though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ains both general and specific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eneral: Home addr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pecific: Life ev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General information usually reported before specific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nstruc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Variable vivid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flashbulb mem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r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uch slower than for information learned in the la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ab: 1-2 secon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: 2-15 secon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ies are more complex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Levels of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vent-specific knowled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General ev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Lifetime period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Levels of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vent specific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mories for individual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st closely aligned with episodic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ain a great deal of perceptual and contextual detai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textual information is both internal and extern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Levels of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ral ev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typ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quence of ev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eated events of a ki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ver general time period beyond individual ev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 integrative and interpretive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Levels of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biographic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fetime perio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ver several general ev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ed around a common the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 structure to a life narr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ten provide unifying information about goals or prefer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16:27:57Z</dcterms:created>
  <dc:creator>Gabriel Radvansky</dc:creator>
  <dc:description/>
  <dc:language>en-US</dc:language>
  <cp:lastModifiedBy>Rinaldirg</cp:lastModifiedBy>
  <dcterms:modified xsi:type="dcterms:W3CDTF">2011-05-11T20:34:59Z</dcterms:modified>
  <cp:revision>195</cp:revision>
  <dc:subject/>
  <dc:title>Autobiographical Memory</dc:title>
</cp:coreProperties>
</file>