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67AD-9A46-436E-B0EA-E3EBED6EB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8AE4-A4F5-4418-877D-94808AB661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C420-0186-4D0F-A060-D722F5C785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FE8B-9E5B-4511-A459-7D5D2EFD70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C2E3-0160-4555-9891-D90B252583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0069-56FF-4677-83F3-D2D958A702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9328-59D2-4F2A-B20A-15F80E6876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9F47-1B89-4184-89E5-1808830841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E73B-7A26-4C42-8EA1-14DAC2C7A1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6CED-9AF6-42A0-99BA-E42874B19F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3853-FA26-4456-AA51-28C0F24085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9784-A42C-41D3-986A-9BF4ECA85B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9952-335E-427C-9C59-5662BBC893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88F4-8717-48D4-BC35-2C0BEC3BC5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451E-357D-4C90-8299-312FF0DC4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88AD-6C75-4A66-8124-C1DCE74899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5558-1096-44C5-B750-47295C0855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856C-895D-48DD-9D2E-CDBF7E721E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38D0-24E6-4A5D-8CCA-4B649E41A2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4C75-42B6-4510-9C13-CF329515BF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6D14-95FD-4BDE-97A5-758402A142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81B1-4A45-47D7-A328-FBF5877D43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02D9-1448-4D73-96C9-A01344D476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4CC6-0E14-4AF0-B0AB-FC7FFDEBC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3132-268E-4641-963D-C7AEE98728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9DB6-2D30-40D4-A774-8FB4A9D959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FACE-ADC4-44F5-A266-76EFA36C47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CC11-D8E7-4545-95CF-ABBEC26468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ADCC-67BF-4EAF-8E89-71643EBBF3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CB93-6D03-49E0-B300-EE27ABF4F3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06D-15F1-4363-981A-DDEFBE8CE9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4E3F-1B7C-49E1-81B8-14A99D839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D4A5-61BA-4243-AE53-5A1EEDC3D2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1F66-D515-4956-B2B4-526F8D9443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F61-86D0-44F0-8BB3-5AD7C61FF6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9551-9E40-4508-A9A0-2D7233489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37AA-10F3-4436-BEED-B572DB2AC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4E5D-3BE5-4318-877B-BF99C41FEE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506C-5E58-4C75-8BAE-A9F6DCE827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3A55-F96A-4FA6-8FD7-5F36B1FEE6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CB6-5F4F-4358-BEF9-6FB944AB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1D6-8C31-4190-9A76-9BE4B968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DD4-A005-4DA5-A20F-0A5AD2F8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236-6CEB-4231-B9BA-34A3DBEA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94F9-4D96-4908-8D59-574D2C1E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346C-FD0F-4CB9-A6B2-9EA96637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F203-6CDD-4FF6-8F9D-94FFCE30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602B-9EA0-4FE5-9D06-90328829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7682-21F8-4E24-A23D-FDD027C3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A16A-FA77-4F19-B24E-B3D5864D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4BD-ADF8-43DC-A114-61606EB8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61D-B92C-4221-BFDB-3C6F4C54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83DA-0D1D-4DC9-97C1-09A154E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2518-1CB1-4A8B-AAA8-A073513B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29EE-BE54-4488-91C4-5160EE6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335E-F47E-4065-A42E-FE9518FE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6101-E578-4DEC-AB72-C3ACBAEB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CF2-5A09-49BA-B16B-FFA0C19F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6DD-36D5-4470-BE17-6BB9256F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70A-E585-460D-8D8D-C63645FC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83D-2FF3-4B66-8196-86408527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76E-F23B-4868-AC5F-54C3CEA0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231-8484-4952-928B-515E4C55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6D4-572F-459E-BB25-98B5B4A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326F-4704-4EBF-B570-296A420D7F6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C0D9-2B96-4F3B-89FB-F7E8061A7F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B651-159A-4487-A79F-B1427E6948B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4CAD-A888-47A8-BE4B-4C649CA537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2880" cy="2975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266832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2 – Neuroscience of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Depression (LT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weakening of neural connections in response to experi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mpor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last for several wee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solid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atic consolidation of information in larger brain sys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take days, weeks or yea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be disrupted in retrograde amnes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olidation is aided by slee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with sleep disruptions (e.g., apnea) have poorer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ubcortical Struct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ortant for memory enco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cious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mage can lead to severe amnes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way-station for more permanent stor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ygdal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ar the hippocamp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ortant for emotional aspects of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ubcortical Struct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sal gangl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ortant for non-conscious memories, habits and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rebell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ortant for fine-grained motor skill memo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ubcortical Struct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lam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ortant for information control in other brain ar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rtical Struct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bes of the cortex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mpor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ont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iet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ccipit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advanced brain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ccipit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mary visual corte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ains information about the structure of the visual wor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ariet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ten involved in working memory processing of spatial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for visual image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mpor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closely associated with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jacent to the hippocamp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location of memory stor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mage can result in loss of various types of mem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ront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losely associated with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rol and coordination of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mage can result in problems with source monitoring and prospective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uroscience of Mem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ral stru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ral commun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cortical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tical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rological meas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tting it all toge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T sca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mputerized-assist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mograp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merly called CAT scan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-ray slices of the br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images are taken and assembled by compu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od spati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 tempor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netic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onanc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ing (MR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merly called Nuclear MR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akes advantage of resonant frequencies of at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ter molecule density is often u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cellent spati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 tempor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lectrical Meas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ake advantage of the electrical component of neural communi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lectrical Stimul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ilder Penfiel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ports of re-experiencing detailed everyday ev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ong-term memory is like a video-camer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xperiences difficult to verif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ccurred in 3.5% of the case (40 out of 1,13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ost did not have the full experience of reliving an ev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gle-cell recor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ical activity from a single cell is recorded in living cre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ten done with anima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n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at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tentials (ERP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sed on EEG record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essment of an EEG wave with reference to a known ev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cellent tempor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latively poor spati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at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ynchron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oups of neurons tend to oscillate 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ynchroniz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scillations occur at different frequency bands (based on a person’s reference point)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lta: -8 to -6 H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ta: -6 to -4 H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wer 1 Alpha: -4 to -2 H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wer 2 Alpha: -2 to 0 H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pper Alpha as 0 to +2 H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re is concerted mental activity, changes in synchronization can occ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retriev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reased Theta synchron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reased Alpha synchron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nscani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netic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mulation (TM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gnetic coils are held over the scal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targeted magnetic pulse is delivered to a targeted brain reg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cessing is disrupted in the targeted reg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mporary le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net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cephal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phy (ME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gnetic fields are used to measure cortical acti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tter spatial resolution than EEG/ER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mporal resolution not as good EEG/ERP, but quite good (10 m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mergent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is an emergent property of the nervous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is not a property of individual neur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emerges from sets of neurons working toge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ood flow meas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essment of memory is made by identifying where blood is flowing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ood flows to areas working har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sitr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ss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mography (PE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ording cerebral blood flo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ject is injected with 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ravels through the bloodstre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active cells demand more bloo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more active areas “light-up” in the sc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od spati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latively poor tempor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Neurological Meas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tiona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gnetic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ona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ging (fMRI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esses the change in oxygen atom locations over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cellent spati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od temporal re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ltered Brai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who have brain le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cits can inform what happens when a brain structure is damag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as damaged have specific effects on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ltered Brai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e lesions are ra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ch case is uniq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much of a finding is due to idiosyncratic characteristics of the individual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ions are haphazar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ltered Brai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al popul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groups of people have regular defic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zheimer’s Dement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orsakoff’s Syndr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ildren or the elder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viations can be more extensively tes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ER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ispheric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coding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riev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me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T scans show that different memory processes involve different hemisphe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ER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ft Hemisphe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trieval of semantic mem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coding of episodic memori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ht Hemisphe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trieval of episodic memor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ter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oth hemispheres are always involved, but one plays a more dominant role than usu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utting It All Togeth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y by Kensinger &amp; Choi (2009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shown pictures that wer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otionally neural (cano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otionally positive (kitten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otionally negative (snak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ctures briefly presented  to ei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ft Visual Field / Right Hemisphere (LVF / RH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ht Visual Field / Left Hemisphere (RVF / LH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utting It All Togeth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ual Detail memory was better for negative pictures presented to the LVF / R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ist memory was better for positive pictures presented to the RVF / L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brings together multiple themes about memory and shows how they are inter-twi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ural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ll bod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xon (w/ terminal button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ndri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elin shea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des of Ranvi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ural Commun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ic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ion potenti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emic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urotransmitters at the synap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ural Commun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rotransmitters are released at the synap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ynapse: a small gap separating neur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0 to 200 angstroms w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rminal button of one neuron to dendrite of the nex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ural Commun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urotransmitters important to memo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cetylecholine (Ach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nhances the strength of synaptic potential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lutamate (Glu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itatory neurotransmitter for forming memori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ABA (gamma-amino butyric acid 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hibitory neurotransmitter for forming memori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repinephrin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emory consolid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opamin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lso critical to memory process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ural Commun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s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citator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courage the post-synaptic neuron to f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hibit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courage the post-synaptic neuron to NOT f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is coded as the pattern of neural  fir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-Term Potentiation (LTP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trengthening of neural connections in response to experi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teration of dendri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mpor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last for several wee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ten observed in hippocampus ce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 observe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n v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21:46:57Z</dcterms:created>
  <dc:creator>Gabriel Radvansky</dc:creator>
  <dc:description/>
  <dc:language>en-US</dc:language>
  <cp:lastModifiedBy>Rinaldirg</cp:lastModifiedBy>
  <dcterms:modified xsi:type="dcterms:W3CDTF">2011-05-11T20:32:49Z</dcterms:modified>
  <cp:revision>299</cp:revision>
  <dc:subject/>
  <dc:title>Applications of the Theory</dc:title>
</cp:coreProperties>
</file>