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95560" y="0"/>
            <a:ext cx="2980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7320" y="686880"/>
            <a:ext cx="4581720" cy="343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02280"/>
            <a:ext cx="29797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95560" y="8702280"/>
            <a:ext cx="29800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A55E-6C76-4A28-9F96-1B2706CF9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DEFF-146F-4FCC-A0D3-7C008CF0AD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81360" cy="3436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1B18-8C08-457E-B9BC-0884C7B011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5055-2985-4B9F-9512-D25C19452F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8B02-3E4E-481D-8906-2B97318FF5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364E-F940-444D-912F-1BB295E1BD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7471-45BF-40D8-9F28-AFE8BE4355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4127-5C5B-4E3E-8B76-C6BD9F94BC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4869-DFAF-461B-AD08-F5C8BC6CDD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C874-251C-4AFE-A64E-426A773BD8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0D62-8073-42AA-AB67-D1B5D00816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E275-F783-4AEC-B54A-C9899978CB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B54F-4758-451F-95D3-38BCCDD054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AC92-5D6B-4909-B457-F147A4928E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6420-4A7E-4A23-827D-82B43187A2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EA85-0781-4C6D-915D-3FD675ADF5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2A3C-078F-45F9-B601-315177C43C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76CC-BEFF-446D-9336-B62A3A4228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2BB6-615B-4A5B-84E5-164A8BC13E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7091-F871-4957-A032-1FBD0CC5CC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76C2-E80C-41D6-88D5-B93B726003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ED84-FA95-4BDF-90EA-E6F45CAAD6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8E04-FEB0-4A57-8144-AD62CEC5FC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D4CA-53C4-41F3-89E7-33D65EC587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AB68-A562-4138-BF44-48A821D578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D56A-4504-498B-9C75-8892345F67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5E5D-CB51-4C4E-BA59-5C6C23122A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498A-DA1F-4FDD-9B2B-D61C335631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CA8B-B755-404B-955D-375C220843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0249-94C9-4A84-86D8-640ADFC45C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F6A7-B186-4FDD-BE9A-94AA71F620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7EB8-003A-4272-A617-AC0DCBA4A9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A560-5608-4C4A-8EB5-4D11D5C0B9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F7FA-4833-49FA-A883-D626D3E669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FB68-A4F2-417E-A640-D8035F2811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DEF4-0B5C-4421-A809-0E471D6A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73F4-8607-4588-8A88-AF9A85F4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D0C-C4C0-49D8-8B71-A4DA75C3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76E-CA30-416F-AA9E-B9964765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5150-C552-44F5-B6AA-7469CD4C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6B45-D368-445F-9CFC-9EBCB403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7683-6A76-45F6-AB7C-B90358EA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356D-FE71-4C72-8970-DBD4B2AE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9796-957E-401A-B691-FE96FC42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2523-8966-4357-B1C7-9FE2B510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F368-DF7D-4880-965B-649DE030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459-A557-4D41-B3BB-264F738C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F24D-60FD-4E77-A77B-D805F3D9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282F-4457-4B94-81D4-FAFD83DC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78B5-592D-43F0-A95C-FE592CC4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D8F8-8AFA-4B02-8A13-CC72EC54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C34B-3E55-43B1-A948-428BAC50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9C86-0FB8-4C6B-AE9D-9B339C8B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8D1-04D8-44AC-A446-6F9C927E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BD3-025E-4EAE-896F-998B09F7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139-BB5D-4733-8BDA-EBF9DBF3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48C9-1362-49DD-93C0-060BCC60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514-8273-4AC5-9E04-B6D7A4D3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A28-F36C-4238-81A3-E277600C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DE1D-AA42-48AE-838E-6FC7253E7EA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248D-01F7-4A47-AECB-5BBE9EC00C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24F3-0571-42FD-AD25-1827CBC74E6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7797-3474-4851-9979-A5E03F8897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uman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4" descr="Radvansky1b1"/>
          <p:cNvPicPr/>
          <p:nvPr/>
        </p:nvPicPr>
        <p:blipFill>
          <a:blip r:embed="rId1"/>
          <a:stretch/>
        </p:blipFill>
        <p:spPr>
          <a:xfrm>
            <a:off x="760320" y="1600200"/>
            <a:ext cx="2252880" cy="2975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2668320"/>
            <a:ext cx="40384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briel Radvansk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822240" y="4925880"/>
            <a:ext cx="74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4 – Sensory and Short-term 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28600" y="55357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 any public performance or display, including transmission of any image over a network; preparation of any derivative work, including extraction, in whole or in part, of any images; any rental, lease, or lending program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ensory Regis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 Blind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fail to notice changes that can occur in the worl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bjects appear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bjects disappear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bjects chang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ople chang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ensory Regis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choic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nsory register for auditory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ntal representation is called an “echo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eds to take into account the nature of auditory information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tantly chang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formation is spread out over ti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ensory Regis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uditory span and du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arwin, Turvey, and Crowder (1972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presented with digit lists in three locations over headphon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wo condition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trol: report as much as you c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perimental: report based on visual c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ensory Regis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ult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trol condition reported about 4 ite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perimental condition results paralleled Sperling’s iconic memory tas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ensory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Regis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arwin, Turvey, &amp; Crowder (197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emonstrated th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Large amount of information is held in echoic mem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held for a longer period of ti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uration: 5000 ms (5 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apacity: very lar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orgetting: deca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Code: audit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ensory Regis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ptic sensory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nsory register for touch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ture of tactile information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ariations in pressure and he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formation is spread out over spa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ent body parts have different sensi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hort-Term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What is the nature of short-term memor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 separate memory syst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Different parts of the brain handle different retention perio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hort-term memory is the portion of LTM that is currently act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 continuum of availability in a single syst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hort-Term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 of short-term memory sp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hort-Term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Capac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7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2 chunks of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 chunk of information is any meaningful uni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xpertise can help in chunk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more chunks, the more that can be retain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hort-Term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Duration: (30 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s this due to decay or interferenc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ensory and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hort-term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nsory Memor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conic, Echoic, &amp; Haptic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ort-term Memor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pacity, duration, and retriev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ory for serial ord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hort-Term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ort-term memory forgetting may be due to interfer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ior items make it harder to remember new on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n initial trials, no forgetting is observ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eppel &amp; Underwood (196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hort-Term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Short-term memory sear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arallel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erial Self-Terminating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erial Exhaustiv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hort-Term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Short-term memory sear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arallel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erial Self-Terminating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erial Exhaustiv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hort-Term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Short-term memory sear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Calibri"/>
                <a:ea typeface="Times New Roman"/>
              </a:rPr>
              <a:t>Parall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Calibri"/>
                <a:ea typeface="Times New Roman"/>
              </a:rPr>
              <a:t>Serial Self-Termina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erial Exhaustiv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hort-Term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rial vs. parall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constant issue in memory retriev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t is possible to model any serial process in a parallel syst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rt-term memory retrieval could be parallel with limited capac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hort-Term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Serial Position Cur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rimacy Effe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Better memory for first list ite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Less likely with difficult to name items (e.g., odor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cency Effe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Better memory for last list ite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uffix Effe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xtra information at the end reduces recency effe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erial Ord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How do we remember things in sequenc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Order information is often importa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elephone 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eople often do remember the correct ord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f order is forgotten, the new one is similar to the old one (local transformation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erial Ord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view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aining Mode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rdinal Mode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sitional Mode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erial Ord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Chaining model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Order stored as item-to-item associations (a chai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tems recalled in sequ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call cannot continue if one is not recall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ontradicted by the recency effe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an be repaired with remote associations and missing item approxim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erial Ord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Ordinal model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Order conveyed by relative position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erturbation mod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is chunked in a hierarchy of control uni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Order is conveyed by item-to-control unit associ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Lower level mis-orderings more likely than higher level mis-order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ensory Regis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ole of the sensory regis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e the sensory registers memor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would life be like without sensory register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erial Ord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Ordinal model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hibition mode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spired by searching behavio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Avoid re-searching a place too soon (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inhibition of retur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Searched items are inhibited (related to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repetition blindnes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When she spilled the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ink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there was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ink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all over.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tems selected by a competitive cueing proc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hibition is used to keep track of the ord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erial Ord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Positional model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lot-based model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has slots at each posi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is stored slots as it is encod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Recall involves moving through the slo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tem and order information are stored together. If one is forgotten, both a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Little evidence to support th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erial Ord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Positional model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ontext mode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ontext shifts over ti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vents closer in time have similar contex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ontext can guide serial ord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is-orderings occur because contexts are simila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erial Ord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urological suppo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mporal lobes and Hippocamp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ed to remember the order in and of itself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rietal lob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ding fo magnitude inform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Serial Ord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urological suppo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ontal lob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orsolateral Prefrontal corte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ttentional guida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motor corte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hunking and tim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tor corte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etailed order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is consistent with embodied cogni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ensory Regis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conic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nsory register for visual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ntal representation is called an “icon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eds to take into account the nature of visual information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latively sta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ccommodate eye move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ensory Regis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Sperling’s stud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emonstrated th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Large amount of information in iconic mem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held for a very short period of ti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uration: 250 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apacity: very lar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orgetting: deca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Code: visu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ensory Regis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orthoscopic Percep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eing more than is the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ssing a picture behind a sli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 perceive more than is actually present, people need to integrate information in iconic mem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ensory Regis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ns-saccadic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 create a complete mental representation of the world, people need to move their ey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is this don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ensory Regis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ye movement (saccad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0 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 visual information gather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x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00 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sual information gather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ensory Regis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ans-saccadic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t retinally-bas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ople cannot integrate using retinal coordina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t space-bas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ople cannot integrate using spatial coordina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riented around object fi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ople notice changes in obje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ttention to the target object is requir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18:41:34Z</dcterms:created>
  <dc:creator>Gabriel Radvansky</dc:creator>
  <dc:description/>
  <dc:language>en-US</dc:language>
  <cp:lastModifiedBy>Rinaldirg</cp:lastModifiedBy>
  <dcterms:modified xsi:type="dcterms:W3CDTF">2011-05-11T20:33:07Z</dcterms:modified>
  <cp:revision>247</cp:revision>
  <dc:subject/>
  <dc:title>Reinforcement in Conditioning</dc:title>
</cp:coreProperties>
</file>