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F706-AAC7-412F-B576-BB904D7DF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07C7-5C8C-4F47-84FC-A3C535DD62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A093-14EC-4264-BBC0-A08509F9F8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34E3-897B-468A-90E4-A5086A5CD7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3219-DFE1-4823-BC40-2D23108DC6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03A7-D760-4A87-B49B-4D497F343C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E265-D7B8-405B-AD86-C5DC9BF957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3FF0-21E0-495D-9D17-62282C35D1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7D52-E55F-4C5C-8971-8680815D6D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A46A-AA73-450E-B69D-EB6E9DB7C0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74EB-9F30-4027-BCE5-F255F91F67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9A41-1998-47C3-B491-37858AE5A6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E84B-DEC8-43B9-A50D-F7EDE06381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642A-7A5A-4353-A659-3C726DC92C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E1DA-68F4-490F-8140-1ED48F0074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381B-ECF6-4860-A62E-E510B826A6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D1F2-EEE5-4BB4-98B0-F9042FDB1D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BF92-A61F-42BE-A5B2-87ACF3105E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AB47-B0C7-4828-A656-8F20968AE3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04EA-8B52-44D1-A4CB-70EE82C0BA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92D9-1815-4AA2-A8BF-8F6F267320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E861-1B1E-44B6-8828-0E60DFBD8C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2B8A-D985-426A-AC88-D8E815136D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9244-6576-4301-B018-AA8A431367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E3AA-7E26-4F7C-9CC0-1986C07A80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9A3F-0C2A-433B-A10E-426F1D914E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F672-9E95-44D5-9DF2-5312EAA48D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B43E-0AB6-4E60-956F-74036AD500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E431-176B-4C6A-B239-43E529D467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91E0-925A-4CB1-8BDE-927873E4E9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C687-EE63-4D5A-B69C-25EC8B7F0B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AD93-6F62-4C1B-9188-B72A10B60C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6E66-CD35-450D-B568-1600D3C28D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DB97-F6F0-4085-87BB-10B6389BA9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1C29-49D2-49AD-94E5-E397EA5868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FA77-E4EF-4BF7-B7B0-1553A62155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353C-87CA-42B3-B718-63E5AE267C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CA0F-D24D-4E5A-BE21-2936C334AF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5301-42DB-4315-B884-5A86D278C7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2854-7CC2-4782-94FE-6C68AFED6D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93F9-A6C2-4E53-BE98-684AA7F867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C935-7B64-4B3A-A0F0-5347BA9A75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F9C6-2CC5-49D3-A3E8-015C212077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F9DC-4031-4CFE-A175-E502E3968F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4451-FA4C-41A9-B258-F2901246E0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DA7B-F5C6-4B3E-AC3A-60AA4EB419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60C0-07D2-416A-8EB2-1FED4BD6D4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7C91-4B1A-4A9C-80DD-6F65DF4322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56E-5BD1-4CB7-9134-3DEDA6DB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5F0-2E95-4256-949D-10F9B51B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567-56F7-42AD-B134-7CB3A1CD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43F-20D5-4FF8-9638-C258F5CC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F3E44-6B3F-41AE-8534-9027C3990B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9E6EE-0FDC-4F04-86CA-917ACAFA09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0FD33-A048-4F4C-9BCE-A25FFE2665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51BB7-0D61-410F-8FE5-AA84F5F9DA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61AD4-4AB2-4633-94AA-3F352AEF5B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7A786-76B1-426D-8586-3C229AFD1B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35F64-8743-47A4-8595-5BC5D7F0A4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C18-F342-446B-A309-97C0CC4C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17D83-5F97-4011-BA24-E835C773AA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3E0BB-2DC9-470C-842F-8B144BBFFC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2DCA9-30B9-421D-ACBF-5F659DACCD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09C82-9FB4-4F3C-88ED-3F30B1E6C4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F84E7-2170-4F50-91CB-EC2160BA49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9A4-45BD-44B2-B456-F2634693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261-8177-46E9-B39B-EB17D3D0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E75-9E47-4F8F-998D-74FABE96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597C-F80C-4E6D-8E2F-9FDD078B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B26-58C5-4E87-9526-B80B83E3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B2F-9BF2-4375-9CB4-A896630E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D24-F67E-4509-9BD4-C7B3A3D0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47E7-3753-4833-9C06-9E3FAB4E18F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B7E4-CFD2-4864-AC18-8320D091E0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C7D0-16CD-4150-A422-26F3D97C23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477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304812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4" descr="Radvansky1b1"/>
          <p:cNvPicPr/>
          <p:nvPr/>
        </p:nvPicPr>
        <p:blipFill>
          <a:blip r:embed="rId1"/>
          <a:stretch/>
        </p:blipFill>
        <p:spPr>
          <a:xfrm>
            <a:off x="760320" y="1600200"/>
            <a:ext cx="225288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 Radvansk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822240" y="492588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4 – Metamemory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28600" y="55357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 or display, including transmission of any image over a network; preparation of any derivative work, including extraction, in whole or in part, of any images; any rental, lease, or lending program.</a:t>
            </a: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Judgments of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s of JOL c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trinsi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pects of the environment (e.g., type of practic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nd not to affect JO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insi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pects of learned information (e.g., perceived ea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o tend to affect JO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nemoni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mory-based information (e.g., how well a person did in the past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Judgments of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ocation of study tim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OLs predict future study 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bor-in-vain eff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arly on, people may focus on most difficult i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gion of proximal lear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ter, people adjust study time to focus on moderately difficult items, just beyond what is currently know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eeling of Know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f something is not recalled, there may be an awareness that it can be recognized la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On a Feeling of Knowing (FOK) test, people try to recall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or those items not recalled, a FOK judgment is giv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ater, a recognition test is give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To assess true 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eeling of Know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FOK judgments are correlated with actual performance, but are far from perf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FOK judgments are based on partial knowledg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is not a discrete (all or none) proc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eeling of Know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K judgments may be based on familiarity with the cue (the questi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er’s “game show” meth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eople either answer a question or indicate they know the answ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ople respond faster in the second case than the fir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eeling of Know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ip-of-the-tongue st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feeling of knowing situ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indication that remembering is immin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as separable features from FOK judg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ople have a TOT experience about once a wee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ople often think of similar sounding wor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ten a problem with a proper nou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al information is often avail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eeling of Know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do tip-of-the-tongue states occu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omplete activ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o many possibilities are avail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ock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y being more activated, related but irrelevant traces block access to the appropriate o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ssible involvement of inhibi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Knowing That You Don’t K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can often rapidly make these judg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nformation in the question may be unfamili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given information about not knowing something ahead of time people are slower to make “don’t know” judg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or knowledge of not knowing is access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member Versus K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rocesses thought to underlie FOK judg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Kno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Feeling of familiarity without remembering where information was learned (unconscious recollec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memb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Full blown remembering experience (conscious recollec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member Versus K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irect and indirect memory tests are used to test this distin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irect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as an object (consciou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direct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as a tool (unconsciou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onscious awareness versus unconscio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ta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udgment of learn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eeling of know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member versus kn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spective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rect Forget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nemon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ptional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member Versus K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member (but not know) responses are affected by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requenc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Generation effe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ivided atten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tentional/incidental lear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Depth of process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tention interv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Less than a da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posi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member Versus K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Know (but not remember) responses are affected by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asked recognition prim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petition prim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timulus mod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een versus he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aintenance rehears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uppression of focal atten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member Versus K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member and know are affected in opposite ways by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rceptual fluency tes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g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Word versus nonword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assed versus distributed pract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Gradual versus abrupt presen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mphasizing similarities or differences during lear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member Versus K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 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member” and “Know” response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re not predicted by accuracy or  confid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re dissoci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semble the implicit/explicit distin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member Versus K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ndsight bi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reased deterministic assessment of reality after it has occurr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reeping determinis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ople have trouble remembering initial assessment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new-it-all-along eff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eople have difficulty remembering previous states of ignora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spective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rospective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membering to do things in the fu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ospective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membering what happened in the pa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spective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uccessful performance involves several stage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ncod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Action to be perform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When action is to be do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tor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Maintain information until retrieval ti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iev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Monitor for retrieval c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ieve memory for a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Do the a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spective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wo types of prospective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vent-bas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Action to be performed when a certain event occu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easi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ime-bas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Action to be performed after a certain time interval or at a pre-specified ti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hard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ome prospective memories involve a mix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spective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rospective memory involves processes used for retrospective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with impaired retrospective memory have impaired prospective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spective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Not all prospective memory processes are shared with retrospective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tamemory abi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ttentional capac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lanning strateg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rformance on retrospective and prospective tasks are not highly correla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e.g.,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= -.18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ta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erson’s awareness of his or her own memory contents and proces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mpts to use meta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rge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ces metamemory judgments are made abou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spective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Factors that impact prospective memor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vailability of the memory represent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aliency of the signaling ev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ttentional resources for monitor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ffectiveness of self-initiated process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spective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rospective memory is largely a top-down proc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rospective memory is associated with the frontal lob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rontal lobe used in plan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rontal lobes damage may impair prospective memory, but not retrospective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ost ability to use "temporal markers" that initiate the to-be-performed a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irected Forget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irected forget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are given sets of i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ome of these people are told to rememb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TB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or others, people are told to forg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TB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irected Forget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remember fewer TBF items, even when instructed to retrieve bo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Less proactive interference on TBR ite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rhaps more retroactive interference on TBR items before a TBF instr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t takes people longer to reject TBF than TBR or new in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irected Forget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BF information may be inhibi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requires effort which can be disrupted by distraction (dual task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occurs for autobiographical memo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occur for enacted tasks, but is weak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irected Forget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do not forget information they think i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leva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onsistent with their belief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rongly semantic related to what is TB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nemon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chniques that can aid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be mental or physical dev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ring around a fing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Any structure used as a retrieval cue to help recall information is a mnemon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nemon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eg word mnemon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.g., “one is a bun, two is a shoe, etc.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is associated with ea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pe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f the peg is recalled, the information is also likely to b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nemon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ethod of loc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agine a familiar path or set of lo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o-be-remembered items are placed at each loc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o remember, take a mental stroll to each loc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nemon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Rhy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.g., “Thirty days hath September...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structure of the rhyme helps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hen the rhyme is remembered, information can be retriev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ta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rget-based sour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ormation from the memory trace(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e-based sour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ormation from the retrieval cue(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nemon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Acrony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A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Notes of the ascending spaces in treble cle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orming a word allows one to track the letters of to-be-remembered ite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nemon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crost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ver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o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Notes of the ascending lines in treble cle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ylmpus’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wer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p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rm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ul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lfactory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ptic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culomotor, Trochlear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rigemenal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bducen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acial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uditory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lossopharyngal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agu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ccessory,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ypogloss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letters in the words of a sentence help retrieve the correct or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xception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people have amazing memory abili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are called mnemonists or memori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ten this ability is limited to certain types of in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xception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me memory abilities come with experti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taurant serv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xi driv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redible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ad synesthes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xception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MS Mincho"/>
              </a:rPr>
              <a:t>Rajan Mahadeva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orld record for recalling 31,811 digits of </a:t>
            </a:r>
            <a:r>
              <a:rPr b="0" lang="el-GR" sz="3600" spc="-1" strike="noStrike">
                <a:solidFill>
                  <a:srgbClr val="ffffff"/>
                </a:solidFill>
                <a:latin typeface="Calibri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ceptional memory for numerical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ther cognitive abilities not exception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xception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deaki Tomoyor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orld record for recalling 40,000 digits of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π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exceptional memory for numerical information or other knowled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d a digit-symbol recoding techniqu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.g., 1 = t, d, or th, 2 = m, 3 = n, etc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xception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o Lu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orld record for recalling 67,890 digits of 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π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exceptional memory for numerical information and types of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lied on creating stories  using phonological features and shapes of digit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xception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idetic image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otographic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ttle evidence that this exi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f present, it is only in young children, and eventually goes awa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ta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eneral hypothese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ue familiar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Judgments based on familiarity of a retrieval c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ccessibi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Judgments based on accessibility of memory tra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ue familiarity is more appropriate for judgments under time pressure, otherwise accessibilit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eti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Judgments based on degree of experienced interfer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Judgments of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Judgment of Learning (JOL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stimation of how well information was learn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redictability of future memory is often poo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Judgments of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nability hypothes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are unable to accurately assess their cognitive proc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us, they cannot assess future performa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onitoring-retrieval hypothes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JOLs are based on whether information can be retrieved into working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Judgments of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est of the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learn information under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magery or rote rehears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paced or massed pract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Generall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magery &gt; ro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pace &gt; mass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o JOLs reflect this differenc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Judgments of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JOLs were given either immediately or after a filled 30s del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JOL predictability was much more accurate after 30 del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onitoring retrieval hypothesis is consistent with the broader accessibility hypothe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20:31:37Z</dcterms:created>
  <dc:creator>Gabriel Radvansky</dc:creator>
  <dc:description/>
  <dc:language>en-US</dc:language>
  <cp:lastModifiedBy>Rinaldirg</cp:lastModifiedBy>
  <dcterms:modified xsi:type="dcterms:W3CDTF">2011-05-11T20:35:49Z</dcterms:modified>
  <cp:revision>164</cp:revision>
  <dc:subject/>
  <dc:title>Metamemory</dc:title>
</cp:coreProperties>
</file>