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80EE-E990-4CDC-AFF6-6B6E2BC4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E53-C9B7-4FC8-88EF-0C48978B0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EBF1-CA42-4DB4-BA2B-0751C21A1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D27-C5D0-4BB0-8679-E0ED29CED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C56E-C7CE-4AFE-9A9F-B9C9D17CE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7185-AD87-4F45-9280-ED8039C85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89C-D0A5-440E-996A-F91750B7A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0724-99B6-4C36-A2DB-0F93BD4026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EB98-795F-483F-BF67-2A7CBCA49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A66-5CD8-48B0-B58D-B7F4E3A53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5A37-7A06-4884-8329-386B1547C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B8DE-5772-4CAF-93BF-E4445C7F6D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1A87-55D1-4247-B56C-460F1BD15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8EEC-FC78-4D99-A30C-3E4C1B86EC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983-3BE2-46D5-849D-7C026217CB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617C-322C-48F8-BB19-8A28461CF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C7E-DB03-4AFE-9362-00B73EA11E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A3E-2A9F-45F0-95E0-7C99BD35D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8D0-1F7A-4EF6-A664-2AE0469A1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695-896E-4462-ADB1-F2C413CDB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4AF-8A57-45FB-8DB8-F65ABF634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84ED-5BF0-4BD5-A002-46321FC11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B31C-9CFC-4145-8E94-28CE618A5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AD8-B407-4576-B523-F4524EBBDC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303-C5A5-4129-9DA0-68939736F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B2D-92F8-4D0C-BE06-B3FB0EF07F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49EB-F501-45DD-AB69-35A1F69EB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E7A-7A21-4B53-8472-DED48FF30B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B9B-A3D2-4AB1-84C6-B77D2718C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3DE-7665-4107-BDF9-02CBF2D14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6867-3C47-4E4F-AE0F-F76AB3C55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F490-2AAA-4AA7-BC66-BBA4E73F4C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3646-0877-4F8D-BC18-76BB5D8AEE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9E4-47CE-4B29-95CB-B87FE5D62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E11-E83A-4059-874E-8EF9E9DEDF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1D2-B098-4F06-B641-C8B0C6C91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179-1A0C-404B-99B6-06D6AE795D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A5CB-6189-45F0-88BE-E2F76DAA1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217-9F4D-4BBA-813F-9A5C73705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FE1F-4483-476E-90AB-157FF4D6D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349-CE35-4231-847A-8798F1C59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8064-F5C3-41E0-BB44-35345D237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D08-80A0-45EE-89C1-123B81EE5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DEE-654A-4BE8-88B8-1D5836EF2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4A4A-1661-4F22-A7DE-B6C537E52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319A-35A3-492B-A0D6-D0FD32CD3B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03C1-D864-4E5B-A637-61B91836C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572F-4C5C-4E32-AC82-D167615550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AAB-63A0-4705-96C1-61E4E29EE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112-EC38-473B-9798-3C3FEACC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BB9-F30A-498C-A4B4-EC82AF1C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984-CAFA-45B7-8764-CE47DC85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F4D-0391-4AF8-B8B0-0DB1E14D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37DA-CD71-46FB-927E-316DDBD6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769E-54AC-4821-BACF-9126102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343E-561C-4FC4-A540-A5969DF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508-0697-497F-BC4D-FEA9FA3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CFB-5DE2-4852-94CD-9BF185D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FB1A-7F4B-4188-8125-2B518D3F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A880-A224-4DC4-A3CE-58EF67A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CC5-44EB-4D34-8445-E2096A6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C685-A60E-4633-9991-46CE1AC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B74-4BF0-4E49-B17E-FF9E01B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368-DAEF-49E8-BDF0-E318DD7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AD8-5300-4955-9BB1-19AD19DA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FD8F-AB38-47E5-B939-1861C348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B4-BB3B-4C63-B9AC-AFE8D4FD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975-4DC5-49C6-B4C4-CFEFE12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431-4BFC-4249-90D3-6476C58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01B-DC7E-4D8D-9551-5D04F3D3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E43-D5FD-4F81-A1A1-4A3430B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C9E-053B-4847-87C9-C874A045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4CA-71A2-4B61-8758-11F1784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EF0-F8FA-4ED3-8F6D-FB277E60FF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F07D-9F8A-4C7E-8F01-A6490B81A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C3D-2992-4A6B-938C-A8BBBD1DC50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6C37-D1D7-452A-A856-314EC2B26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26683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3 – Methods and Princ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ow does one define “depth” of process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Are pleasantness judgments shallow or deep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nnot use performance as a measure of 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is is circul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 influence of prior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arge inter-person vari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ration effec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Slamecka &amp; Graf, 197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s better for what people generate than what is only see/hear/re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Generation causes elaborate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ha!” effec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Auble, Franks, &amp; Soraci, 197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kind of generation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lutions people arrive at through generation are remembered bet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nactment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erformed actions are remembered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icity of encoding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Hasher &amp; Zacks, 197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information is encoded more automatically, without int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.g., space, time, or frequen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ntional or incidental encoding does not influence memory in these ca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minal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the experimenter understands the stimulus to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ctional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the participant is treating as a stimul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not always the sa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 by Ebbingha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of nonsense syllab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v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ss effort is required to learn information a second time after forgetting had occur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imulus makes contact with unconscious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ture superiority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ctures are remembered better than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aided by image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reteness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rete information is remembered better than abstrac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otional stimul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affected by the emotional cont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lyanna Princi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 time, people remember emotionally positive information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some circumstances, negative information is remembered bet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differs depending on how often a information is encounte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ognition is better for infrequent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all is better for frequent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reference eff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better if information is self-referent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vival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best for information related to survival (e.g., being stranded on a islan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hods and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nents of memory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imulus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ing memory cont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ucture and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cious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rec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open-ended report of memory cont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uch information is accurately recal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that was not encountered but is reported (false memori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all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recalled order to assess memory organization (cluster analys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ced rec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forced to recall a certain amou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ker memories are reveal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might otherwise withhold these respon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guess to complete the ta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uesses may reveal how memory ope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takes are 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ed rec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recalled in response to a c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trieval cue controls contex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spond to some or all of the c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ker memories are reveal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usions are inform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rieval pla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lp people navigate a recall t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need to track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has not yet been recal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has already been recal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trieval plan organizes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getting follows a power fun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be because the underlying neurological process is exponent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, a reflection of an averaging across many linear proces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getting is reduced b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leep (consolida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coh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prevent the storage of interfering new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lear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ed rehearsal of memorized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s forgetting rat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ini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ing previously forgotten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mnes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ing more on subsequent attemp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on must identify old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ier than reca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d-New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dentifying whether an item is old (in memory) or new (not in memory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ection for recognition gu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s of respon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es” - correct identification of old i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ss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” - incorrect non-identification of old i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lse alarm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es” - incorrect identification of new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 rejec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”  - correct non-identification of new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68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ecting for recognition gu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imple solu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uracy = (Hits – False Alarm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latively crude, but better than no corr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mponents of Memory Resea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an experime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ontrolled situation in which a researcher manipulates variables of interest, measuring the effect of this manip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ignal detection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iginally developed in communication the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ater adopted by psychophys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inally used by memory researc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ignal detection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ith Hits and False alarms, one can calculate indices of discrimination (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) and bias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se values vary independently and indicate different things about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the Contents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ced choice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erson is given two or more choices and selects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ful in looking at types of err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rious error types can be presented at o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so lowers overall performan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yes/no recognition, chance is 5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th more options, chance is lower and low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oci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ing memory when people are alone or in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tual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in a group situ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minal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working alone, whose efforts are summed toge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oci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ive inhib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all is worse for actual than nominal grou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s’ retrievals disrupts one’s retrieval pl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oci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ive facili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ognition is better for actual than for nominal grou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can work together to reject what otherwise would be false ala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oci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hear a list of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tter memory if people are told the list was generated by another person than a compu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are sensitive to what other people think is import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tal chronome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ime it takes to perform oper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complex operations take mo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e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fferences in response time are informative about the nature of memory processes involv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Donder’s subtractive factors meth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 find time to perform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= (a +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+ b) - (a + 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Sternberg’s additive factors meth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 find time to perform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= (a + X + X + b) - (a + X + 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respond faster when information was recently preceded by similar ite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ative to an unrelated contr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, people respond faster to “doctor” if it was preceded by “nurse” than by “bre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s even been observed 17 years later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mponents of Memory Resea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vari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riable that is manipu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, retention inter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ent vari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riable that is meas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, accura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rol vari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relevant variable held const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, room temper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luster analy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that is stored together is generally retrieved toge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luster analyses methods can reveal this orga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f there is no objective organization, there may be subjective organiz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s some insight into individual differenc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time between recalls can be u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-item delay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ng pauses indicate a switch from one cluster to the n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ssing Memory Structur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d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restructure information to capture organizational qual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, grouping into categ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organization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jective organiz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impose structure when there is no objective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cious Exper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memory meas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valuations of one’s own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al repor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aware of many mental proces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orts provide insight into conscious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vs. know judgments is an example of a metamemory re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cious Exper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ndsight bi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ies of the past are distorted to conform to current knowledge or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cious Exper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icult of impossible to test exclusively explicit or implicit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ect and indirect memory t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ect memory t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cious Exper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rect memory t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d stem com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M ___ ___ 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gment com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 ___ ___ O R 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ceptual identif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cious Exper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licit memory influences thinking and behavior in ways that people are not conscious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ory processes involve a mixture of conscious and unconscious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verging Ev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ed-accuracy trade-of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slower but less error prone (or the rever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hange in accuracy (or response time) reflects people being more or less cautious, and is not reflective of memory process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mponents of Memory Resear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her typ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lation stu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suring performance on a dependent variable as a function of pre-existing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si-experi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existing conditions combined with controlled assignment of independent variab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stu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iosyncratic cond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idental vs. inten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iden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on is unaware that memory will be tes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nt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on is aware of an upcoming memor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ds to elaborate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vels of processing (Craik &amp; Lockhart, 197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re deeply processed information is better remembe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trieval is predicted based on the depth of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ote rehears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leads to shallow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laborative rehears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leads to deep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 word in upper cas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EA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es the word rhyme with “gate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igh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a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es the word make sense in the sentence “He saw a _________ walking down the street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cto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ou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pects of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agery leads to better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ing mental images requires effort and leads to elaborative proces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al code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ing mental images leads to two memory cod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bal c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e c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8:45:15Z</dcterms:created>
  <dc:creator>Gabriel Radvansky</dc:creator>
  <dc:description/>
  <dc:language>en-US</dc:language>
  <cp:lastModifiedBy>Rinaldirg</cp:lastModifiedBy>
  <dcterms:modified xsi:type="dcterms:W3CDTF">2011-05-11T20:32:30Z</dcterms:modified>
  <cp:revision>349</cp:revision>
  <dc:subject/>
  <dc:title>Operant Conditioning</dc:title>
</cp:coreProperties>
</file>